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5.xml.rels" ContentType="application/vnd.openxmlformats-package.relationships+xml"/>
  <Override PartName="/ppt/notesSlides/notesSlide8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wmf" ContentType="image/x-wmf"/>
  <Override PartName="/ppt/media/image10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5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3.png" ContentType="image/png"/>
  <Override PartName="/ppt/media/image25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CC83-D48F-41E3-8027-9940C25E59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33A8-4D38-4D71-A307-9D00E167B48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D0DF-43BB-4423-A6AA-2A3E663AF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1179-5A62-4A01-986F-A4E4C54D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8724-C2AA-4E64-A6E2-8A3875200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3219-5A0A-4117-83BF-43C130D46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FFF4-C951-4E17-A05E-0294208E0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C98B-7A3D-42D1-BF84-B2DB73F0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D157-F0BD-453E-AF10-39C1A6F2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D373-BAD8-4E1B-B579-DE8F2DFC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683B-5DFC-42E2-8923-901C168D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3161-4E50-482E-9474-84014820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E249-37C1-4D36-8D30-965BD1F9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36F1-3953-4393-B53D-278007D5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F4DA-57FB-40DC-81F7-FB883F61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57CA-0828-42F1-87DF-5C25CEB7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6CE4-7309-4EA6-9205-2E1C852B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CD7B-541C-44D8-9C94-91D4E6E84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7C57-AA4A-450F-8091-CDEA0B80C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33EA-DB66-428F-90B4-6AF1EA2C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B72B-709E-4697-986B-013C17AB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9AA1-1110-49BD-87BE-F840EB3B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AD6F-D343-4419-BB71-2FBB3DD7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EFA3-C582-425C-A3DA-46183445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B315-F466-4C07-BA6E-BC34A2F1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477F-79C3-4384-BA49-F5BBCB3E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96FD-F673-4677-9CDC-E7EBEC6FFBE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1B59-1C89-4355-A100-C12633A2BF0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зрастные анатомо-физиологические особенности системы кроветворения  и состава периферической крови у детей. Семиотика и основные синдромы поражения органов кроветворения у дет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ция для студент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альность – 31.05.02 – Педиатр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циплина – Пропедевтика детских болезн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фессор   Г.П.Ширяе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оугольник 4"/>
          <p:cNvSpPr/>
          <p:nvPr/>
        </p:nvSpPr>
        <p:spPr>
          <a:xfrm>
            <a:off x="0" y="0"/>
            <a:ext cx="914400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едеральное государственное бюджетное образовательное учреждение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сшего   образова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«Башкирский государственный медицинский университет»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инистерства здравоохранения Российской Федер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афедра педиатрии с курсом ИДП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бщий анализ кров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казатели эритроцитов и гемоглобина в норм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1700280"/>
          <a:ext cx="8229600" cy="4722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Возрас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Эритр.,10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х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2/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Hb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, г/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 ден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4,3-7,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80-2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 меся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,8-5,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15-1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6 месяце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,5-4,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10-1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 г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,6-4,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10-13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-6 л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,5-4,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10-1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7-12 л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,5-4,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10-14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3-15 л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,6-5,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15-1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Взросл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муж. 4,0 - 5,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жен. 3,7 - 4,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муж. 130-1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жен. 120-1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Гемофилия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– врождённое заболевание, в основе длительной (от нескольких часов до нескольких дней) кровоточивости которого лежит нарушение свёртывающей системы кров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Заболевание передаётся </a:t>
            </a: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по наследству внуку от деда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через здоровую мать ребёнка, являющуюся кондуктором (переносчиком) гемофили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Патогенез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нарушение первой фазы свёртывания кров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: наличие у больного антигемофильных факторов в количестве меньше нормы нарушает образование плазменного тромбопластина, что приводит к удлинению (замедлению) времени свёртывания крови, в результате чего происходит продолжительное кровотечени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Формы гемофилии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1) гемофилия А (классическая) – дефицит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III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фактора (антигемофильного глобулина А) – частота 80%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) гемофилия В - дефицит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X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фактора (плазменного тромбопластинового компонента- фактора Кристмаса – имя больного) – частота 10-15%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3) гемофилия С – снижение активности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XI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фактора (плазменного предшественника тромбопластина – фактора Розенталя) – частота 3-5%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основе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емофили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лежит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арушение механизма вторичного внутреннего гемостаз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Содержимое 4" descr="E:\kafedra\малюнки\MEG\3395med0364-15.jpg"/>
          <p:cNvPicPr/>
          <p:nvPr/>
        </p:nvPicPr>
        <p:blipFill>
          <a:blip r:embed="rId1"/>
          <a:stretch/>
        </p:blipFill>
        <p:spPr>
          <a:xfrm>
            <a:off x="539640" y="3284640"/>
            <a:ext cx="295272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основе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олезни Верльгоф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лежит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арушение одного звена первичного гемостаза - тромбоци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Главное изменение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оставе крови при болезни Верльгофа –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уменьшение количества тромбоцитов – тромбоцитопения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Одновременно с этим происходит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снижение функции тромбоцитов относительно эпителия сосудо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Формы заболевания по этиолог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 наследственная (очень редкая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 приобретён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Содержимое 4" descr="E:\kafedra\малюнки\MEG\3609med3256-05.jpg"/>
          <p:cNvPicPr/>
          <p:nvPr/>
        </p:nvPicPr>
        <p:blipFill>
          <a:blip r:embed="rId1"/>
          <a:stretch/>
        </p:blipFill>
        <p:spPr>
          <a:xfrm>
            <a:off x="6156360" y="4076640"/>
            <a:ext cx="2808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линические признаки патологического процесса пр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олезни Верльгоф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 возникающие на любой поверхности кожи и видимых слизистых оболочках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еморраг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кровоизлияния) имеют следующие характерные признак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симметричны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олиморфны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разных размеров (от петехий до экхимозов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олихромны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не одного цвета) – цвет геморрагий от красно0бордового до сине-зелёного и жёлтог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овотече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из слизистых оболочек носа, полости рта, мочевого пузыря, ЖКТ, лёгких, почек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у старших девочек обильные маточные кровотеч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 могут быть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овоизлия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головной мозг, плевру, сетчатку глаз.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иагностические показатели лабораторного обследования при болезни Верльгоф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 тромбоцитоп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 удлинение времени кровотечения по Дюке (10-20 мин и более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 удлинение или отсутствие ретракции кровяного сгуст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) нарушение показателей ААФ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) положительные пробы на выявление резистентности капиллярной стен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) при значительном кровотечении развивается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остгеморрагическая анем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уменьшение показателей эритроцитов и гемоглобина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Геморрагический васкулит (болезнь Шенлейна-Генох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основе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геморрагического васкулита (болезнь Шенлейна-Геноха)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большое значение имеет нарушение тромбоцитарного и коагуляционного звеньев системы свёртывания крови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болевание проявляется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нарушением звена первичного гемостаз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– стенки артериол, прекапилляров, капилляров и венул (панваскулит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едполагается, что повреждение сосудистой стенки происходит под влиянием инфекционных процессов, так как болезнь Шенлейна-Геноха чаще всего развивается через 2-4 недели после ангины, ОРВИ, отита или других инфекционных заболеван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5508720" y="2133720"/>
            <a:ext cx="3743280" cy="45352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05"/>
          <p:cNvPicPr/>
          <p:nvPr/>
        </p:nvPicPr>
        <p:blipFill>
          <a:blip r:embed="rId2"/>
          <a:stretch/>
        </p:blipFill>
        <p:spPr>
          <a:xfrm>
            <a:off x="4859280" y="1373040"/>
            <a:ext cx="208908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линические признаки болезни Шенлейна-Генох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жный синдро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геморрагии на кож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для которых характерн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ид сыпи – чаще петех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имметричнос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озникнов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место возникнове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чаще вокруг суставов, особенно голеностопных, на разгибательных поверхностях конечностей и ягодица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одновременное возникновение всей сыпи и потому все геморрагии одного цвета (сначала красные, затем жёлтые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часто для сыпи характерно волнообразное тече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ставной синдро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обычно поражаются голеностопные, коленные и лучезапястные суставы, в которых возникает боль, отёчность и гиперемия кожи, процесс идёт 2-3 дн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бдоминальный синдро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напоминает клинику «острого живота»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иступообразная боль в брюшной пол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рвот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онос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бледное, страдальческое выражение лиц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сухой, обложенный белым налётом язык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тахикард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чечный синдро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проявляется в анализе мочи гематурией, протеинурие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ейкоз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опухоль, возникающая из кроветворных клеток, с обязательным поражением костного мозга и вытеснением нормальных ростков кроветвор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руппы лейкозов (по нарушению характера кроветворения и составу клеток крови)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 остры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 хроническ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тром лейкоз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роисходит патологическая пролиферация и задержка развития малодифференцированных, молодых, т.е. бластных клеток, которые и составляют основную массу опухолевых клеток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трый лейкоз 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имфобластный, миелобластный, мегакариобластный, недифференцированный (из морфологически неидентифицированых бластных клеток) и т.д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происходит от названия нормальных предшественников опухолевой клетки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роническом лейкозе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исходит повышенная пролиферация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незрелых стади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сохранение их дифференцирования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до зрелых клеточных элементо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ую массу опухолевых клеток составляют морфологически зрелые клетки(лимфоциты, моноциты и т.д.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Патогенез острого лейкоза -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системное опухолевое разрастание исходит из кроветворных клеток - костного мозг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течени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острых лейкозов выделяют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1) первый острый период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) ремиссию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3) рецидивы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Характерные признаки, появляющиеся в острой стадии острого лейкоза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1) боль в костях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) боль в суставах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3) болезненность костей при поколачивани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4) симптом стернальгии – болезненность при постукивании грудины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А затем происходит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стремительное разрастание симптоматики лейкоза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1) высокая лихорадк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) обширная картина геморрагического синдрома – кровоизлияния от петехий до больших размеров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3) язвенно-некротический процесс полости рта, зева, кишечник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4) всё более выраженная анемия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57120" y="642600"/>
            <a:ext cx="829152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еднее содержание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b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эритроците (Ме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Corpusc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ar Hemo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obin) (МСН) - п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затель, отражающий абсолютное содержание гемоглобина в одном эритроците (пг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едняя концентрация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b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 эритроците (Ме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Corpusc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ar Hemo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obin Со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centration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 (МСНС) - показатель, отражающий степень насыщения эритроцита гемоглобин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едний объем эритроцитов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Ме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corpusculare volume )(MCV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Признаки и возможные осложнения тяжёлого патологического процесса острого лейкоза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(при полном объективном обследовании)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увеличение лимфатических узлов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(обычно чаще безболезненные шейные, подчелюстные, подмышечные, паховые; рентгенологически определяется увеличение лимфатических желёз средостения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сердце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– может быть миокардиодистрофия на фоне анемии, а также лейкозная инфильтрация, некрозы и кровоизлияния в сердечной мышце; при этом перкуторно – границы расширены, аускультативно – тоны глухие, систолический шум; может развиваться перикардит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пульс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– малый, тахикард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АД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резко снижено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лёгкие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– пневмония с лейкозной инфильтрацией и очагами некроз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6)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экссудативный плеврит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7)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увеличение печени, селезёнк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разной степени, чаще в более поздней стадии патологического процесса; при пальпации – плотные, безболезненные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8)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нервная система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– признаки лейкозного менингоэнцефалит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абораторные данны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во время разгара заболевания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костно-мозговой пунктат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увеличение числа бластных клеток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до 70-100% клеточных форм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снижение числа эритронормобластов, клеток гранулоцитарного ряда и мегакариоцитов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общий анализ кров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эритропения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(может быть до 1-1,5 Т/л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снижение гемоглобина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(даже до 20-30 г/л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тромбоцитопения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(бывает ниже критического уровня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 количество лейкоцитов может быть разным – от лейкопении к значительному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гиперлейкоцитозу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(даже выше 100 Г/л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 основной состав лейкограммы –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лейкозные бластные клетк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, число которых может достигать 100%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лейкемический провал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повышение СОЭ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4" descr="longhorn-f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5"/>
          <p:cNvSpPr/>
          <p:nvPr/>
        </p:nvSpPr>
        <p:spPr>
          <a:xfrm>
            <a:off x="3042720" y="136440"/>
            <a:ext cx="6197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entury Gothic"/>
              </a:rPr>
              <a:t>Благодарю за внимание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entury Gothic"/>
              </a:rPr>
              <a:t>Успехов во все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entury Gothic"/>
              </a:rPr>
              <a:t>начинаниях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73080" y="5805360"/>
            <a:ext cx="551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Century Gothic"/>
              </a:rPr>
              <a:t>Будьте здоровы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 Black"/>
              </a:rPr>
              <a:t>Цветовой показатель (ЦП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отражает относительное содержание гемоглобина в одном эритроци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в норме ЦП составляе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неонатальный период – 0,9-1,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осле 1 месяца жизни – 0,8-1,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4" descr="CELL-Red-Blood-Cell-150"/>
          <p:cNvPicPr/>
          <p:nvPr/>
        </p:nvPicPr>
        <p:blipFill>
          <a:blip r:embed="rId3"/>
          <a:stretch/>
        </p:blipFill>
        <p:spPr>
          <a:xfrm>
            <a:off x="6443640" y="4581360"/>
            <a:ext cx="201600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 Black"/>
              </a:rPr>
              <a:t>Интенсивность окраски эритроци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 Black"/>
              </a:rPr>
              <a:t>нормохромия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– ЦП в норм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 Black"/>
              </a:rPr>
              <a:t>гипохромия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– показатель ниже нормы, признак неполного насыщения эритроцитов гемоглобин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 Black"/>
              </a:rPr>
              <a:t>гиперхромия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– выше нормы, признак эритроцитов повышенного объе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 Black"/>
              </a:rPr>
              <a:t>анизохромия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– эритроциты с окраской различной интенсив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 Black"/>
              </a:rPr>
              <a:t>Этапы кроветворения у пл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 Black"/>
              </a:rPr>
              <a:t>на 3й неделе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в кровяных островках желточного мешка появляются первые клетки – мегалобласты с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римитивным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b 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b P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заменяется фетальным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b 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начинается синтез взрослого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b A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 Black"/>
              </a:rPr>
              <a:t>6 недель – 5 месяцев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еченочное кроветвор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в печени образуютс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мегалобласты – эритроидные клет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нейтрофилы – гранулоцитарный ря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мегакариоциты – тромбоцитарный ря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3"/>
          <a:stretch/>
        </p:blipFill>
        <p:spPr>
          <a:xfrm>
            <a:off x="6264360" y="0"/>
            <a:ext cx="2879640" cy="29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 Black"/>
              </a:rPr>
              <a:t>3 месяца – 5 месяце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еченочно- селезеночное кроветвор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в систему кроветворения включается селезенка, в которой происходит образование лимфоцитов и моноци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 Black"/>
              </a:rPr>
              <a:t>с 4 месяцев и к рождению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костномозговое кроветвор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в костном мозге находятся стволовые кроветворные клетки и образуются клетки</a:t>
            </a: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миело- и лимфопоэ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86d1ec"/>
                </a:solidFill>
                <a:latin typeface="Arial"/>
              </a:rPr>
              <a:t>Тромбоциты (= кровяные пластинки = бляшки Биццоцеро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это фрагменты цитоплазмы гигантских клеток костного мозга мегакариоцит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ремя их существования  в кровеносном русле – 8-9 дн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86d1ec"/>
                </a:solidFill>
                <a:latin typeface="Arial"/>
              </a:rPr>
              <a:t>Главная функц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тромбоцитов – участие в </a:t>
            </a:r>
            <a:r>
              <a:rPr b="1" lang="ru-RU" sz="3200" spc="-1" strike="noStrike">
                <a:solidFill>
                  <a:srgbClr val="86d1ec"/>
                </a:solidFill>
                <a:latin typeface="Arial"/>
              </a:rPr>
              <a:t>процессе свёртывания крови</a:t>
            </a:r>
            <a:r>
              <a:rPr b="0" lang="ru-RU" sz="3200" spc="-1" strike="noStrike">
                <a:solidFill>
                  <a:srgbClr val="86d1e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86d1ec"/>
                </a:solidFill>
                <a:latin typeface="Arial"/>
              </a:rPr>
              <a:t>Лейкоцит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белые форменные элементы крови, с ядром, без пигмента, способны выходить из сосудов, где выполняют свою </a:t>
            </a:r>
            <a:r>
              <a:rPr b="1" lang="ru-RU" sz="3200" spc="-1" strike="noStrike">
                <a:solidFill>
                  <a:srgbClr val="86d1ec"/>
                </a:solidFill>
                <a:latin typeface="Arial"/>
              </a:rPr>
              <a:t>главную функцию – защитну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деление лейкоцитов в зависимости от наличия или отсутствия специфической зернистост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1" lang="ru-RU" sz="3200" spc="-1" strike="noStrike">
                <a:solidFill>
                  <a:srgbClr val="86d1ec"/>
                </a:solidFill>
                <a:latin typeface="Arial"/>
              </a:rPr>
              <a:t>гранулоцит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в состав которых входят базофилы, эозинофилы, нейтрофилы (юные, палочкоядерные, сегментоядерные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1" lang="ru-RU" sz="3200" spc="-1" strike="noStrike">
                <a:solidFill>
                  <a:srgbClr val="86d1ec"/>
                </a:solidFill>
                <a:latin typeface="Arial"/>
              </a:rPr>
              <a:t>агранулоцит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состоят из лимфоцитов и моноци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Кровь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 –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это внутренняя среда организма, выполняющая множество жизненно важных функци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дыхательна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путь переноса кислорода и углекислого газ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защитна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гуморальный и клеточный иммунитет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гомеостатическа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поддержание стабильности внутренней среды организм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итательна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транспортировка питательных веществ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экскреторна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выведение остатков обмена веществ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)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гуморальна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перенос гормонов и биологически активных веществ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800" spc="-1" strike="noStrike" u="sng">
                <a:solidFill>
                  <a:srgbClr val="86d1ec"/>
                </a:solidFill>
                <a:uFillTx/>
                <a:latin typeface="Arial"/>
              </a:rPr>
              <a:t>Гранулоциты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 в них есть зернист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 место их образования – красный костный мозг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) в кровеносном русле они в среднем живут 10-20 дн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) главные функции гранулоцит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базофилы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принимают участие в процессе метаболизма гистамина и гепарин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эозинофил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защитная функция (реагируют на инородный белок, принимают участие в аллергических реакциях); они находятся в крови около 5 дней, после чего мигрируют в ткан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нейтрофил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защитная функция (разрушают микроорганизмы); после циркуляции в крови они тоже мигрируют в ткани, где живут несколько час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3200" spc="-1" strike="noStrike" u="sng">
                <a:solidFill>
                  <a:srgbClr val="86d1ec"/>
                </a:solidFill>
                <a:uFillTx/>
                <a:latin typeface="Arial"/>
              </a:rPr>
              <a:t>Агранулоцит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т зернист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состоят из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86d1ec"/>
                </a:solidFill>
                <a:latin typeface="Arial"/>
              </a:rPr>
              <a:t>лимфоци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86d1ec"/>
                </a:solidFill>
                <a:latin typeface="Arial"/>
              </a:rPr>
              <a:t>моноци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предшественники всех лимфоци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образуются в костном мозг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) общая функция – </a:t>
            </a:r>
            <a:r>
              <a:rPr b="0" lang="ru-RU" sz="3200" spc="-1" strike="noStrike">
                <a:solidFill>
                  <a:srgbClr val="86d1ec"/>
                </a:solidFill>
                <a:latin typeface="Arial"/>
              </a:rPr>
              <a:t>иммунологическа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) в дальнейшем они делятся н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Т-лимфоцит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В-лимфоциты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86d1ec"/>
                </a:solidFill>
                <a:latin typeface="Arial"/>
              </a:rPr>
              <a:t>Т-лимфоциты (Тимус-зависимые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образуются в вилочковой железе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us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селезёнке, лимфатических узла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живут годами, иногда десятки лет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функция – </a:t>
            </a:r>
            <a:r>
              <a:rPr b="0" lang="ru-RU" sz="3200" spc="-1" strike="noStrike">
                <a:solidFill>
                  <a:srgbClr val="86d1ec"/>
                </a:solidFill>
                <a:latin typeface="Arial"/>
              </a:rPr>
              <a:t>осуществление клеточного и регуляция гуморального иммуните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86d1ec"/>
                </a:solidFill>
                <a:latin typeface="Arial"/>
              </a:rPr>
              <a:t>В-лимфоцит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образуются в красном костном мозге, лимфатических узлах ЖКТ, селезёнке, лимфатических узлах всего организм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находятся в кровеносном русле недели-месяц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функция – </a:t>
            </a:r>
            <a:r>
              <a:rPr b="0" lang="ru-RU" sz="3200" spc="-1" strike="noStrike">
                <a:solidFill>
                  <a:srgbClr val="86d1ec"/>
                </a:solidFill>
                <a:latin typeface="Arial"/>
              </a:rPr>
              <a:t>гуморальный иммунитет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из В-лимфоцитов образуются </a:t>
            </a:r>
            <a:r>
              <a:rPr b="0" lang="ru-RU" sz="3200" spc="-1" strike="noStrike">
                <a:solidFill>
                  <a:srgbClr val="86d1ec"/>
                </a:solidFill>
                <a:latin typeface="Arial"/>
              </a:rPr>
              <a:t>плазмоциты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клетки, продуцирующие защитные антитела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86d1ec"/>
                </a:solidFill>
                <a:latin typeface="Arial"/>
              </a:rPr>
              <a:t>Моноцит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образуются в костном мозг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находятся в кровеносном русле 30-60 час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главная функция – </a:t>
            </a:r>
            <a:r>
              <a:rPr b="0" lang="ru-RU" sz="3200" spc="-1" strike="noStrike">
                <a:solidFill>
                  <a:srgbClr val="86d1ec"/>
                </a:solidFill>
                <a:latin typeface="Arial"/>
              </a:rPr>
              <a:t>защитна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относятся к макрофагической системе организма (или мононуклеарной фагоцитарной  системе – МФС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) после перехода в ткани превращаются в </a:t>
            </a:r>
            <a:r>
              <a:rPr b="0" lang="ru-RU" sz="3200" spc="-1" strike="noStrike">
                <a:solidFill>
                  <a:srgbClr val="86d1ec"/>
                </a:solidFill>
                <a:latin typeface="Arial"/>
              </a:rPr>
              <a:t>макрофаг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) срок жизни не установле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основе деления крови на группы – </a:t>
            </a:r>
            <a:r>
              <a:rPr b="1" lang="ru-RU" sz="2400" spc="-1" strike="noStrike">
                <a:solidFill>
                  <a:srgbClr val="86d1ec"/>
                </a:solidFill>
                <a:latin typeface="Arial"/>
              </a:rPr>
              <a:t>реакция изоагглютин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гглютиногены А  и В находятся в эритроцит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гглютинины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и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находятся в сыворотке кров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ru-RU" sz="2400" spc="-1" strike="noStrike">
                <a:solidFill>
                  <a:srgbClr val="86d1ec"/>
                </a:solidFill>
                <a:latin typeface="Arial"/>
                <a:ea typeface="Arial"/>
              </a:rPr>
              <a:t>Четыре группы крови: </a:t>
            </a:r>
            <a:r>
              <a:rPr b="1" lang="en-US" sz="2400" spc="-1" strike="noStrike">
                <a:solidFill>
                  <a:srgbClr val="86d1ec"/>
                </a:solidFill>
                <a:latin typeface="Arial"/>
                <a:ea typeface="Arial"/>
              </a:rPr>
              <a:t>I(0) – 0</a:t>
            </a:r>
            <a:r>
              <a:rPr b="1" lang="ru-RU" sz="2400" spc="-1" strike="noStrike">
                <a:solidFill>
                  <a:srgbClr val="86d1ec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86d1ec"/>
                </a:solidFill>
                <a:latin typeface="Arial"/>
                <a:ea typeface="Arial"/>
              </a:rPr>
              <a:t>II(A) – A</a:t>
            </a:r>
            <a:r>
              <a:rPr b="1" lang="ru-RU" sz="2400" spc="-1" strike="noStrike">
                <a:solidFill>
                  <a:srgbClr val="86d1ec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86d1ec"/>
                </a:solidFill>
                <a:latin typeface="Arial"/>
                <a:ea typeface="Arial"/>
              </a:rPr>
              <a:t>III(B) – B</a:t>
            </a:r>
            <a:r>
              <a:rPr b="1" lang="ru-RU" sz="2400" spc="-1" strike="noStrike">
                <a:solidFill>
                  <a:srgbClr val="86d1ec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86d1ec"/>
                </a:solidFill>
                <a:latin typeface="Arial"/>
                <a:ea typeface="Arial"/>
              </a:rPr>
              <a:t>IV(AB)</a:t>
            </a:r>
            <a:r>
              <a:rPr b="1" lang="ru-RU" sz="2400" spc="-1" strike="noStrike">
                <a:solidFill>
                  <a:srgbClr val="86d1ec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Распределение агглютиногенов и агглютининов в разных группах кров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>
            <a:off x="900000" y="2276640"/>
            <a:ext cx="703908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ним из антигенов эритроцитов у 85% детей является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h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-фактор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кровь резус-положительная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h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+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15% детей резус-фактора нет (кровь резус-отрицательная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h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же у новорождённого кровь характеризуется чёткой резус-принадлежность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Система </a:t>
            </a:r>
            <a:r>
              <a:rPr b="1" lang="en-US" sz="2800" spc="-1" strike="noStrike">
                <a:solidFill>
                  <a:srgbClr val="86d1ec"/>
                </a:solidFill>
                <a:latin typeface="Arial"/>
              </a:rPr>
              <a:t>HLA –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система лейкоцитарных антигенов человек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это комплекс генов, расположенный на кратком плече 6-й хромосомы, состоящий из структурных единиц, то есть локусов А, В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D (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окус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меется 4 варианта –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P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R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DQ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каждый ребёнок имеет набор из 4 пар главных антиген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интез рецепторов на поверхности каждой клетки определяется геном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LA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Исключение составляют лишь зрелые эритроциты – поэтому при необходимости кровь больному переливается без учёта данных системы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LA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800" spc="-1" strike="noStrike" u="sng">
                <a:solidFill>
                  <a:srgbClr val="86d1ec"/>
                </a:solidFill>
                <a:uFillTx/>
                <a:latin typeface="Arial"/>
              </a:rPr>
              <a:t>Этапы кроветворения плода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 на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3-йнедел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нутриутробного развития главным образом в кровяных островках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желточного</a:t>
            </a:r>
            <a:r>
              <a:rPr b="1" lang="en-US" sz="2800" spc="-1" strike="noStrike">
                <a:solidFill>
                  <a:srgbClr val="86d1e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меш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оявляются первые клетки крови –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мегалобласты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примитивным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bP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1" lang="en-US" sz="2800" spc="-1" strike="noStrike">
                <a:solidFill>
                  <a:srgbClr val="86d1ec"/>
                </a:solidFill>
                <a:latin typeface="Arial"/>
              </a:rPr>
              <a:t>6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недел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начало) –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5 месяце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максимальное кроветворение) –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конец внутриутробного период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угасание этого вида) –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печёночное кроветворе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во время которого в печени образуютс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мегалобласты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эритроидные клет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нейтрофил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гранулоцитарный ряд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мегакариоциты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тромбоцитарный ряд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800" spc="-1" strike="noStrike" u="sng">
                <a:solidFill>
                  <a:srgbClr val="86d1ec"/>
                </a:solidFill>
                <a:uFillTx/>
                <a:latin typeface="Arial"/>
              </a:rPr>
              <a:t>Этапы кроветворения плода (продолжение)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3 месяц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начало) –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5 месяце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конец) –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печёночно-селезёночное кроветворе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когда в систему кроветворения включается селезёнка, в которой происходит образова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лимфоци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моноци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4 месяц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начало) –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костномозговое кроветворе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 к рождению  и на всю жизнь костный мозг остаётся центральным кроветворным органом, в котором находятся стволовые кроветворные клетки и образуются клетки миело- и лимфопоэз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хема кроветвор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7777080" cy="564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6d1ec"/>
                </a:solidFill>
                <a:uFillTx/>
                <a:latin typeface="Arial"/>
              </a:rPr>
              <a:t>АФО  костного моз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86d1ec"/>
                </a:solidFill>
                <a:latin typeface="Arial"/>
              </a:rPr>
              <a:t>1. Образуетс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впервые на 2-м месяце внутриутробного развития в ключиц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через месяц появляется в плоских костях (лопатках, костях черепа, рёбрах, грудине и др.) и позвонка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в начале 4-го месяца – в трубчатых костях конечнос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До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1 недели плода костный мозг выполняет </a:t>
            </a:r>
            <a:r>
              <a:rPr b="1" lang="ru-RU" sz="2400" spc="-1" strike="noStrike">
                <a:solidFill>
                  <a:srgbClr val="86d1ec"/>
                </a:solidFill>
                <a:latin typeface="Arial"/>
              </a:rPr>
              <a:t>остеогенную функцию</a:t>
            </a:r>
            <a:r>
              <a:rPr b="0" lang="ru-RU" sz="2400" spc="-1" strike="noStrike">
                <a:solidFill>
                  <a:srgbClr val="86d1e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86d1ec"/>
                </a:solidFill>
                <a:latin typeface="Arial"/>
              </a:rPr>
              <a:t>3. Клетки гемопоэз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являются на 12-14 недел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86d1ec"/>
                </a:solidFill>
                <a:latin typeface="Arial"/>
              </a:rPr>
              <a:t>4. Костномозговой кана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бразуется на 20-28 неделях, в результате чего костный мозг начинает выполнять функцию основного кроветворного орга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На последнем месяце внутриутробного развития в костном мозге диафиза трубчатых костей появляются </a:t>
            </a:r>
            <a:r>
              <a:rPr b="0" lang="ru-RU" sz="2400" spc="-1" strike="noStrike">
                <a:solidFill>
                  <a:srgbClr val="86d1ec"/>
                </a:solidFill>
                <a:latin typeface="Arial"/>
              </a:rPr>
              <a:t>жировые клетк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одновременно возникают ячейки кроветворения в эпифиза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6d1ec"/>
                </a:solidFill>
                <a:uFillTx/>
                <a:latin typeface="Arial"/>
              </a:rPr>
              <a:t>АФО  костного мозга (продолжени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В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тском возраст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красный костный мозг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выполняющий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кроветворную функцию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находится в эпифизах и диафизах трубчатых костей и губчатом веществе плоских кост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. В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2-14 ле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красный костный мозг в диафизах заполняется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жёлтым костным мозгом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в состав которого входят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жировые клетки – адипоцит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ормальных условиях жёлтый костный мозг не выполняет кроветворную функцию, однако при больших кровопотерях и некоторых патологических состояниях в нём появляются очаги миелопоэз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86d1e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d1ec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86d1ec"/>
                </a:solidFill>
                <a:latin typeface="Arial"/>
              </a:rPr>
              <a:t>Кроветворен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процесс серии дифференциации клеток, в результате которого образуются </a:t>
            </a:r>
            <a:r>
              <a:rPr b="1" lang="ru-RU" sz="3200" spc="-1" strike="noStrike">
                <a:solidFill>
                  <a:srgbClr val="86d1ec"/>
                </a:solidFill>
                <a:latin typeface="Arial"/>
              </a:rPr>
              <a:t>зрелые клетки периферической кров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d1ec"/>
                </a:solidFill>
                <a:latin typeface="Arial"/>
              </a:rPr>
              <a:t>Схема кроветвор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503280" y="620640"/>
          <a:ext cx="8640720" cy="6024600"/>
        </p:xfrm>
        <a:graphic>
          <a:graphicData uri="http://schemas.openxmlformats.org/drawingml/2006/table">
            <a:tbl>
              <a:tblPr/>
              <a:tblGrid>
                <a:gridCol w="1044360"/>
                <a:gridCol w="1152720"/>
                <a:gridCol w="1727280"/>
                <a:gridCol w="1619280"/>
                <a:gridCol w="1584360"/>
                <a:gridCol w="1512720"/>
              </a:tblGrid>
              <a:tr h="5004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доначальная стволовая кроветворная клет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3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летки-предшественники миелопоэ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летки-предшест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нни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мфо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эз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ритро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лас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гака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иоблас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летки-предшественники гранулоци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в и макрофаг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мфо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лас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елоблас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ноблас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нор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ци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мега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риоци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миелоци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зо-, эозино- и нейтрофильн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моноци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лимфо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и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рмо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и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елоци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зо-, эозино- и нейтрофильн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тику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оци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гамиелоци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зо-, эозино- и нейтрофильн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ритро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и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омбо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и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зофил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озинофил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йтрофил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ноци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мфоци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86d1ec"/>
                </a:solidFill>
                <a:uFillTx/>
                <a:latin typeface="Arial"/>
              </a:rPr>
              <a:t>Нормальное количество эритроци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ериод новорождённост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начало периода – 5,4 х 1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1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/л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до конца периода - 4,7 х 1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1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/л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Грудной период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14 лет - 4,2 х 1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1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/л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,8 х 1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1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/л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Старше 14 ле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альчики - 5,2 х 1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1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/л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девочки   - 4,8 х 1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1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/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Максимальное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личество эритроцитов, гемоглобина и ретикулоцитов –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сразу после рождения ребён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арактерны для крови новорождённог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йкилоцито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анизоцито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анизохром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эритроциты с ядром – нормоциты и эритроблас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Критическим числом эритроцитов (т.е. числом, опасным для жизни ребёнка и требующим неотложной помощи) являетс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1,0 х 10</a:t>
            </a:r>
            <a:r>
              <a:rPr b="1" lang="ru-RU" sz="2800" spc="-1" strike="noStrike" baseline="30000">
                <a:solidFill>
                  <a:srgbClr val="86d1ec"/>
                </a:solidFill>
                <a:latin typeface="Arial"/>
              </a:rPr>
              <a:t>12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/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Критическое число </a:t>
            </a:r>
            <a:r>
              <a:rPr b="1" lang="en-US" sz="2800" spc="-1" strike="noStrike">
                <a:solidFill>
                  <a:srgbClr val="86d1ec"/>
                </a:solidFill>
                <a:latin typeface="Arial"/>
              </a:rPr>
              <a:t>Hb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 – 20 г/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Object 3"/>
          <p:cNvGraphicFramePr/>
          <p:nvPr/>
        </p:nvGraphicFramePr>
        <p:xfrm>
          <a:off x="3995640" y="1747800"/>
          <a:ext cx="4691160" cy="51055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747800"/>
                    <a:ext cx="469116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Нормальные эритроциты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Железодефицитная анемия: гипохромия, анизоцитоз (микроциты), анулоциты, пойкилоцито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4" descr="№2 эрит"/>
          <p:cNvPicPr/>
          <p:nvPr/>
        </p:nvPicPr>
        <p:blipFill>
          <a:blip r:embed="rId3"/>
          <a:srcRect l="7007" t="0" r="71332" b="62194"/>
          <a:stretch/>
        </p:blipFill>
        <p:spPr>
          <a:xfrm>
            <a:off x="0" y="1747800"/>
            <a:ext cx="3780000" cy="5110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26" name="Comment 5"/>
          <p:cNvSpPr/>
          <p:nvPr/>
        </p:nvSpPr>
        <p:spPr>
          <a:xfrm>
            <a:off x="0" y="1905120"/>
            <a:ext cx="457200" cy="70776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Comment 6"/>
          <p:cNvSpPr/>
          <p:nvPr/>
        </p:nvSpPr>
        <p:spPr>
          <a:xfrm>
            <a:off x="8458200" y="1752480"/>
            <a:ext cx="457200" cy="70776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ru-RU" sz="2400" spc="-1" strike="noStrike" u="sng">
                <a:solidFill>
                  <a:srgbClr val="86d1ec"/>
                </a:solidFill>
                <a:uFillTx/>
                <a:latin typeface="Arial"/>
              </a:rPr>
              <a:t>Наиболее частые патологические отклон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86d1ec"/>
                </a:solidFill>
                <a:latin typeface="Arial"/>
              </a:rPr>
              <a:t>1) эритропения (эритроцитопения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уменьшение количества эритроцитов у детей старше 1 месяца жизни ниже 3,5 х 1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1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/л – минимально допустимое нормативное знач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86d1ec"/>
                </a:solidFill>
                <a:latin typeface="Arial"/>
              </a:rPr>
              <a:t>2) снижение количества гемоглобин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зникает пр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анемии разного генез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злокачественных заболеваниях крови (лейкоз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гипергидрат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86d1ec"/>
                </a:solidFill>
                <a:latin typeface="Arial"/>
              </a:rPr>
              <a:t>Эритроцитоз или полицитем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увеличение количества эритроцитов) и </a:t>
            </a:r>
            <a:r>
              <a:rPr b="1" lang="ru-RU" sz="2400" spc="-1" strike="noStrike">
                <a:solidFill>
                  <a:srgbClr val="86d1ec"/>
                </a:solidFill>
                <a:latin typeface="Arial"/>
              </a:rPr>
              <a:t>повышение количества </a:t>
            </a:r>
            <a:r>
              <a:rPr b="1" lang="en-US" sz="2400" spc="-1" strike="noStrike">
                <a:solidFill>
                  <a:srgbClr val="86d1ec"/>
                </a:solidFill>
                <a:latin typeface="Arial"/>
              </a:rPr>
              <a:t>Hb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стречаются редко и носят симптоматический характер пр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86d1ec"/>
                </a:solidFill>
                <a:latin typeface="Arial"/>
              </a:rPr>
              <a:t>эксикоз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обезвоживание или гидратация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86d1ec"/>
                </a:solidFill>
                <a:latin typeface="Arial"/>
              </a:rPr>
              <a:t>синих ВПС, лёгочно-сердечной недостаточнос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нарушение гемодинамики, отёк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Цветовой показатель (ЦП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признак относительного содержания гемоглобина в одном эритроците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н зависит о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бъёма эритроци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тепени насыщения его гемоглобин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Норма ЦП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неонатальный период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0,9 – 1,2, далее 0,9 – 1,1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осле 1 месяца жизн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- 0,8 – 1,0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 новорождённого ЦП составляет 1,1 и больш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86d1e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6d1ec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86d1ec"/>
                </a:solidFill>
                <a:latin typeface="Arial"/>
              </a:rPr>
              <a:t>Ретикулоциты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не совсем зрелые формы эритроцитов с субстанцией, т.е. их предшественни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86d1ec"/>
                </a:solidFill>
                <a:latin typeface="Arial"/>
              </a:rPr>
              <a:t>Количество ретикулоцит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новорождённый (сразу после рождения) – 10-30%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в грудном возрасте – 5-10%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осле 1 года – 2,5-5%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овь условно разделена на 2 част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форменные элемент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эритроциты, тромбоциты и лейкоциты (в норме процентное содержание – гематокрит – составляет 40-45%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межклеточный состав крови –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лазм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в которую входят: вода, белки, ферменты, гормоны, витамины и различные гуморальные веще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6d1ec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86d1ec"/>
                </a:solidFill>
                <a:latin typeface="Arial"/>
              </a:rPr>
              <a:t>Ретикулоцитоз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увеличение количества ретикулоцитов (показатель функционального состояния костного мозг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86d1ec"/>
                </a:solidFill>
                <a:latin typeface="Arial"/>
              </a:rPr>
              <a:t>Ретикулоцитоз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 положительный показатель эффективности лекарственной терапии при кровотечении и анем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 может указать на гемолитический характер заболе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 иногда является диагностическим критерием скрытого кровотечения (например, при язвенной болезн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86d1ec"/>
                </a:solidFill>
                <a:latin typeface="Arial"/>
              </a:rPr>
              <a:t>Отсутствие ретикулоцитоз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видетельствует о снижении регенераторной способности кроветворной сист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86d1ec"/>
                </a:solidFill>
                <a:latin typeface="Arial"/>
              </a:rPr>
              <a:t>Осмотическая резистентность эритроцитов (ОРЭ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способ определения стойкости эритроцитов к гипотоническому раствору хлорида натрия разной концентрации (изотоническим для них является 0,85% раствор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3200" spc="-1" strike="noStrike" u="sng">
                <a:solidFill>
                  <a:srgbClr val="86d1ec"/>
                </a:solidFill>
                <a:uFillTx/>
                <a:latin typeface="Arial"/>
              </a:rPr>
              <a:t>Показатели ОРЭ у новорождённого</a:t>
            </a:r>
            <a:r>
              <a:rPr b="1" lang="ru-RU" sz="3200" spc="-1" strike="noStrike">
                <a:solidFill>
                  <a:srgbClr val="86d1e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ин. ОРЭ – 0,52 – 0,48%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акс. ОРЭ – 0,30 – 0,24%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Скорость оседания эритроцитов (СОЭ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 норм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у новорождённого     - 0 – 2 мм/час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в грудном возрасте - 2 – 4 мм/час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далее                       -  4 – 10 мм/ча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Увеличение СОЭ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признак патологических состояни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невоспалительного процесса любой систем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инфекционного заболев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аллергической реак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злокачественной патолог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                 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Уменьшение СОЭ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эксикоз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анафилактический шок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гипотрофия, истощ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язвенная болезн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декомпенсированные сердечные наруш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может быть при остром вирусном гепатите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86d1ec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Нормальное количество тромбоцито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не зависит от возраста и пола ребёнка) в среднем равно (150-300) х 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9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/л (или 150-300Г/л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Критическое числ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30 Г/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86d1e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Тромбоцитоз</a:t>
            </a:r>
            <a:r>
              <a:rPr b="0" lang="ru-RU" sz="2800" spc="-1" strike="noStrike">
                <a:solidFill>
                  <a:srgbClr val="86d1e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увеличение количества тромбоцитов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выше 400 г/л</a:t>
            </a:r>
            <a:r>
              <a:rPr b="0" lang="ru-RU" sz="2800" spc="-1" strike="noStrike">
                <a:solidFill>
                  <a:srgbClr val="86d1e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Тромбоцитопения</a:t>
            </a:r>
            <a:r>
              <a:rPr b="0" lang="ru-RU" sz="2800" spc="-1" strike="noStrike">
                <a:solidFill>
                  <a:srgbClr val="7b46d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уменьшение  количества тромбоцитов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ниже 100 г/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главный лабораторный показатель болезни Верльгоф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Тромбоцитопат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нормальное количество тромбоцитов с нарушением их качественной полноценности – признак группы заболеваний наследственного, врождённого и приобретённого генез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6d1ec"/>
                </a:solidFill>
                <a:uFillTx/>
                <a:latin typeface="Arial"/>
              </a:rPr>
              <a:t>Лейкоцитарная форму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В раннем неонатальном период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ибольшее количество лейкоцитов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(30 – 10) х 10</a:t>
            </a:r>
            <a:r>
              <a:rPr b="1" lang="ru-RU" sz="2800" spc="-1" strike="noStrike" baseline="30000">
                <a:solidFill>
                  <a:srgbClr val="86d1ec"/>
                </a:solidFill>
                <a:latin typeface="Arial"/>
              </a:rPr>
              <a:t>9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/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рмативное значение  в любом возрасте после неонатального периода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(6 – 8) х 10</a:t>
            </a:r>
            <a:r>
              <a:rPr b="1" lang="ru-RU" sz="2800" spc="-1" strike="noStrike" baseline="30000">
                <a:solidFill>
                  <a:srgbClr val="86d1ec"/>
                </a:solidFill>
                <a:latin typeface="Arial"/>
              </a:rPr>
              <a:t>9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/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684000" y="0"/>
            <a:ext cx="8459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Лейкоцитоз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увеличение количества лейкоцитов свыше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10 х 10</a:t>
            </a:r>
            <a:r>
              <a:rPr b="1" lang="ru-RU" sz="2800" spc="-1" strike="noStrike" baseline="30000">
                <a:solidFill>
                  <a:srgbClr val="86d1ec"/>
                </a:solidFill>
                <a:latin typeface="Arial"/>
              </a:rPr>
              <a:t>9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/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сновные причины лейкоцитоз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 инфекционные вирусные заболевания, токсические состоя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 снижение иммунологического статус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) отдельные формы лейкоз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) голодание (алиментная лейкопения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) аплазия костного мозг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86d1ec"/>
                </a:solidFill>
                <a:latin typeface="Arial"/>
              </a:rPr>
              <a:t>Базофилы</a:t>
            </a:r>
            <a:r>
              <a:rPr b="0" lang="ru-RU" sz="2400" spc="-1" strike="noStrike">
                <a:solidFill>
                  <a:srgbClr val="86d1e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нормальное количество 0,5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6d1ec"/>
                </a:solidFill>
                <a:latin typeface="Arial"/>
              </a:rPr>
              <a:t>Эозинофил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в норме (1 – 4)% от общего количества лейкоци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 u="sng">
                <a:solidFill>
                  <a:srgbClr val="86d1ec"/>
                </a:solidFill>
                <a:uFillTx/>
                <a:latin typeface="Arial"/>
              </a:rPr>
              <a:t>Эозинофилия</a:t>
            </a:r>
            <a:r>
              <a:rPr b="1" lang="ru-RU" sz="2400" spc="-1" strike="noStrike">
                <a:solidFill>
                  <a:srgbClr val="86d1e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86d1ec"/>
                </a:solidFill>
                <a:latin typeface="Arial"/>
              </a:rPr>
              <a:t>– увеличение количества эозинофилов выше 5 % -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характерный признак заболеван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 аллергического характер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астматический бронхит и бронхиальная астм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экссудативно-катаральный диатез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кожные аллергические заболе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аллергическая реакция на медикаменты и вакцин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 глистные инвазии (аскаридоз и трихоцефалёз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 инвазии простейших (лямблиоз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) скарлатин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) лимфогранулематоз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) миелоидный лейко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86d1ec"/>
                </a:solidFill>
                <a:latin typeface="Arial"/>
              </a:rPr>
              <a:t>Моноцит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в норме (6 – 10)%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личество </a:t>
            </a:r>
            <a:r>
              <a:rPr b="1" lang="ru-RU" sz="3200" spc="-1" strike="noStrike">
                <a:solidFill>
                  <a:srgbClr val="86d1ec"/>
                </a:solidFill>
                <a:latin typeface="Arial"/>
              </a:rPr>
              <a:t>базофилов, эозинофилов и моноцито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месте составляют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~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10%, а </a:t>
            </a:r>
            <a:r>
              <a:rPr b="1" lang="ru-RU" sz="3200" spc="-1" strike="noStrike">
                <a:solidFill>
                  <a:srgbClr val="86d1ec"/>
                </a:solidFill>
                <a:latin typeface="Arial"/>
                <a:ea typeface="Arial"/>
              </a:rPr>
              <a:t>нейтрофилы и лимфоцит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– 90 %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416720" cy="40323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736560" y="4745160"/>
            <a:ext cx="67248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зиологические перекрёсты лейкоцит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_______  нейтрофи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_ _ _ _ _  лимфоци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, I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первый и второй перекрёс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1403280" y="404640"/>
            <a:ext cx="6720120" cy="50403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"/>
          <p:cNvSpPr/>
          <p:nvPr/>
        </p:nvSpPr>
        <p:spPr>
          <a:xfrm>
            <a:off x="2197800" y="5445000"/>
            <a:ext cx="45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став периферической кров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Сдвиг лейкоцитарной формулы влев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увеличение количества юных, палочкоядерных нейтрофилов, появление миелоцито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возникает пр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 воспалительных заболеваниях разных систе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 инфекционных заболевания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) гемолитическом процесс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) хроническом лейкоз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) аллергических реакция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) потере крови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Лейкемический прова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нарушение состава всех нейтрофилов, при котором происходи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вышение количества незрелых форм (миелоцитов, юных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имеется незначительное количество зрелых (сегментоядерных нейтрофилов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тсутствие переходных форм (юных, палочкоядерных).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диагностический признак острого лейкоз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Сдвиг лейкоцитарной формулы вправ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увеличение количества зрелых нейтрофил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Нейтропения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уменьшение количества нейтрофилов более, чем на 1/3 от возрастной нор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йтропе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озникает пр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некоторых инфекционных заболеваниях (корь, малярия, брюшной тиф, тяжёлое течение гриппа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туберкулёз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родолжительном приёме ряда лекарственных препаратов (антибиотики, сульфаниламиды, цитостатики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некоторых видах анемии (гипопластической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действии повышенного радиационного фо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ждународные обозначения параметров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ализа крови</a:t>
            </a:r>
            <a:br>
              <a:rPr sz="4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йкоциты                                                                                    WBC, х10 9/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ритроциты                                                                                  RBC, х10 12/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емоглобин                                                                                   HYB, г/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ематокрит    (0,57-0,39)                                                              НСТ, 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ний объем эритроцита  (128-80)                                         MCV, fl (ф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нее содержание гемоглобина в эритроците(32-36)          МС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няя концентрация гемоглобина в эритроците                   МСНС,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ирота распределения эритроцитов по объему                       RDW, 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омбоциты                                                                                   PLT, х10 9/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имфоциты                                                                                    LYM, 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анулоциты                                                                                  GRAN,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йкоциты среднего размера                                                     MID, 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ний объем тромбоцита                                                        MPV, fl (ф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Система гемостаз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сложная биологическая система, выполняющая 2 функц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 поддержание необходимого жидкого состояния кров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 остановка возникшего кровотечения в случае повреждения сосудистой стен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86d1ec"/>
                </a:solidFill>
                <a:latin typeface="Arial"/>
              </a:rPr>
              <a:t>Процесс гемостаз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ервичны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вторичны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2200" spc="-1" strike="noStrike" u="sng">
                <a:solidFill>
                  <a:srgbClr val="86d1ec"/>
                </a:solidFill>
                <a:uFillTx/>
                <a:latin typeface="Arial"/>
              </a:rPr>
              <a:t>Особенности действия первичного гемостаза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(в результате удара и повреждения стенки), в основе которых лежит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полное взаимодействие сосудистой стенки и тромбоцитов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1) в первую очередь возникает </a:t>
            </a:r>
            <a:r>
              <a:rPr b="1" lang="ru-RU" sz="2200" spc="-1" strike="noStrike">
                <a:solidFill>
                  <a:srgbClr val="86d1ec"/>
                </a:solidFill>
                <a:latin typeface="Arial"/>
              </a:rPr>
              <a:t>нервно-рефлекторный спазм сосудистой стенк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) из эндотелия стенки выделяются в кровеносное русло </a:t>
            </a:r>
            <a:r>
              <a:rPr b="1" lang="ru-RU" sz="2200" spc="-1" strike="noStrike">
                <a:solidFill>
                  <a:srgbClr val="86d1ec"/>
                </a:solidFill>
                <a:latin typeface="Arial"/>
              </a:rPr>
              <a:t>стимуляторы тромбоцитов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– адреналин, норадреналин и др., а тромбоциты тоже выделяют аналогичные вещества, поддерживающие спазм сосудов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3) наступает широкомасштабное действие на процессы </a:t>
            </a:r>
            <a:r>
              <a:rPr b="1" lang="ru-RU" sz="2200" spc="-1" strike="noStrike">
                <a:solidFill>
                  <a:srgbClr val="86d1ec"/>
                </a:solidFill>
                <a:latin typeface="Arial"/>
              </a:rPr>
              <a:t>адгези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(присоединение тромбоцитов к поражённому эпителию) и </a:t>
            </a:r>
            <a:r>
              <a:rPr b="1" lang="ru-RU" sz="2200" spc="-1" strike="noStrike">
                <a:solidFill>
                  <a:srgbClr val="86d1ec"/>
                </a:solidFill>
                <a:latin typeface="Arial"/>
              </a:rPr>
              <a:t>агрегаци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4) тромбоциты поддаются максимально необходимым процессам адгезии и агрегации, в результате чего формируется </a:t>
            </a:r>
            <a:r>
              <a:rPr b="1" lang="ru-RU" sz="2200" spc="-1" strike="noStrike">
                <a:solidFill>
                  <a:srgbClr val="86d1ec"/>
                </a:solidFill>
                <a:latin typeface="Arial"/>
              </a:rPr>
              <a:t>тромбоцитарная пробка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, которая закрывает поражённое место сосуд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В </a:t>
            </a:r>
            <a:r>
              <a:rPr b="1" lang="ru-RU" sz="2200" spc="-1" strike="noStrike" u="sng">
                <a:solidFill>
                  <a:srgbClr val="ffff00"/>
                </a:solidFill>
                <a:uFillTx/>
                <a:latin typeface="Arial"/>
              </a:rPr>
              <a:t>процессе первичного гемостаза принимают участие 2 звена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 – </a:t>
            </a:r>
            <a:r>
              <a:rPr b="1" lang="ru-RU" sz="2200" spc="-1" strike="noStrike" u="sng">
                <a:solidFill>
                  <a:srgbClr val="ffff00"/>
                </a:solidFill>
                <a:uFillTx/>
                <a:latin typeface="Arial"/>
              </a:rPr>
              <a:t>тромбоциты и сосудистая стенка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, а их действия достаточно для остановки кровотечения только в </a:t>
            </a:r>
            <a:r>
              <a:rPr b="1" lang="ru-RU" sz="2200" spc="-1" strike="noStrike" u="sng">
                <a:solidFill>
                  <a:srgbClr val="ffff00"/>
                </a:solidFill>
                <a:uFillTx/>
                <a:latin typeface="Arial"/>
              </a:rPr>
              <a:t>мелких сосудах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Адгезивно-агрегационные функции тромбоцитов (ААФТ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ценка ретенции тромбоцитов на стекле или фильтрах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устанавливается степень адгезивности тромбоцитов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 гемолизат-агрегационный тест (устанавливается агрегационность тромбоцитов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Продолжительность кровотечения по Дюк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 норме составляет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2 -4 мину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Удлинение времени кровотечения по Дюк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что обычно возникает при уменьшении количества тромбоцитов, является патологически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6d1ec"/>
                </a:solidFill>
                <a:uFillTx/>
                <a:latin typeface="Arial"/>
              </a:rPr>
              <a:t>Механизм вторичного гемост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900000" y="765000"/>
            <a:ext cx="2808360" cy="432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нешний механ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4859280" y="765000"/>
            <a:ext cx="3313080" cy="432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нутренний механ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395280" y="1413000"/>
            <a:ext cx="3311640" cy="936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тупление в плазм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актора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тканевого тромбопластин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5580000" y="1557360"/>
            <a:ext cx="433440" cy="4316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6443640" y="1557360"/>
            <a:ext cx="576360" cy="4316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7451640" y="1557360"/>
            <a:ext cx="1079640" cy="4316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X + VI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19"/>
          <p:cNvSpPr/>
          <p:nvPr/>
        </p:nvSpPr>
        <p:spPr>
          <a:xfrm>
            <a:off x="6012000" y="177336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20"/>
          <p:cNvSpPr/>
          <p:nvPr/>
        </p:nvSpPr>
        <p:spPr>
          <a:xfrm>
            <a:off x="7020000" y="177336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21"/>
          <p:cNvSpPr/>
          <p:nvPr/>
        </p:nvSpPr>
        <p:spPr>
          <a:xfrm>
            <a:off x="2627280" y="2565360"/>
            <a:ext cx="3745080" cy="358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ромбиназа =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 + V + IV (C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23"/>
          <p:cNvSpPr/>
          <p:nvPr/>
        </p:nvSpPr>
        <p:spPr>
          <a:xfrm flipH="1">
            <a:off x="6372000" y="1989000"/>
            <a:ext cx="136836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26"/>
          <p:cNvSpPr/>
          <p:nvPr/>
        </p:nvSpPr>
        <p:spPr>
          <a:xfrm>
            <a:off x="3988080" y="2924280"/>
            <a:ext cx="350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ктивирует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27"/>
          <p:cNvSpPr/>
          <p:nvPr/>
        </p:nvSpPr>
        <p:spPr>
          <a:xfrm>
            <a:off x="2627280" y="3284640"/>
            <a:ext cx="5040360" cy="3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ромбин (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фактор) - неактив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30"/>
          <p:cNvSpPr/>
          <p:nvPr/>
        </p:nvSpPr>
        <p:spPr>
          <a:xfrm>
            <a:off x="4070880" y="3573360"/>
            <a:ext cx="17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вращае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31"/>
          <p:cNvSpPr/>
          <p:nvPr/>
        </p:nvSpPr>
        <p:spPr>
          <a:xfrm>
            <a:off x="3924360" y="4005360"/>
            <a:ext cx="3527280" cy="4316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ктивный тромб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33"/>
          <p:cNvSpPr/>
          <p:nvPr/>
        </p:nvSpPr>
        <p:spPr>
          <a:xfrm>
            <a:off x="4502880" y="436572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щепля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34"/>
          <p:cNvSpPr/>
          <p:nvPr/>
        </p:nvSpPr>
        <p:spPr>
          <a:xfrm>
            <a:off x="3924360" y="4869000"/>
            <a:ext cx="3527280" cy="3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бриноген (=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фактор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36"/>
          <p:cNvSpPr/>
          <p:nvPr/>
        </p:nvSpPr>
        <p:spPr>
          <a:xfrm>
            <a:off x="4697280" y="51768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разуе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37"/>
          <p:cNvSpPr/>
          <p:nvPr/>
        </p:nvSpPr>
        <p:spPr>
          <a:xfrm>
            <a:off x="3995640" y="5950080"/>
            <a:ext cx="4464000" cy="3585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брин, выпадающий в виде осад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39"/>
          <p:cNvSpPr/>
          <p:nvPr/>
        </p:nvSpPr>
        <p:spPr>
          <a:xfrm>
            <a:off x="900000" y="4941720"/>
            <a:ext cx="576360" cy="358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I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40"/>
          <p:cNvSpPr/>
          <p:nvPr/>
        </p:nvSpPr>
        <p:spPr>
          <a:xfrm>
            <a:off x="1332720" y="436572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ктивиру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43"/>
          <p:cNvSpPr/>
          <p:nvPr/>
        </p:nvSpPr>
        <p:spPr>
          <a:xfrm flipH="1">
            <a:off x="1476000" y="4221000"/>
            <a:ext cx="237492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45"/>
          <p:cNvSpPr/>
          <p:nvPr/>
        </p:nvSpPr>
        <p:spPr>
          <a:xfrm>
            <a:off x="1258920" y="5300640"/>
            <a:ext cx="273672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46"/>
          <p:cNvSpPr/>
          <p:nvPr/>
        </p:nvSpPr>
        <p:spPr>
          <a:xfrm>
            <a:off x="1384200" y="560880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абилизиру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47"/>
          <p:cNvSpPr/>
          <p:nvPr/>
        </p:nvSpPr>
        <p:spPr>
          <a:xfrm>
            <a:off x="5724360" y="292428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48"/>
          <p:cNvSpPr/>
          <p:nvPr/>
        </p:nvSpPr>
        <p:spPr>
          <a:xfrm>
            <a:off x="6156360" y="3645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49"/>
          <p:cNvSpPr/>
          <p:nvPr/>
        </p:nvSpPr>
        <p:spPr>
          <a:xfrm>
            <a:off x="6227640" y="443700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50"/>
          <p:cNvSpPr/>
          <p:nvPr/>
        </p:nvSpPr>
        <p:spPr>
          <a:xfrm>
            <a:off x="6372360" y="522936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51"/>
          <p:cNvSpPr/>
          <p:nvPr/>
        </p:nvSpPr>
        <p:spPr>
          <a:xfrm>
            <a:off x="539640" y="2708280"/>
            <a:ext cx="503280" cy="3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53"/>
          <p:cNvSpPr/>
          <p:nvPr/>
        </p:nvSpPr>
        <p:spPr>
          <a:xfrm>
            <a:off x="755640" y="234936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54"/>
          <p:cNvSpPr/>
          <p:nvPr/>
        </p:nvSpPr>
        <p:spPr>
          <a:xfrm flipV="1">
            <a:off x="1042920" y="2781000"/>
            <a:ext cx="158436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Основные лабораторные тесты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указывающие на состояние вторичного гемостаз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 коагулограмм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 время свёртывания крови по Бюркер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) время свёртывания крови по Ли-Уайт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Основные показатели коагулограмм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 тромбиновое врем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 протромбиновый индекс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) время рекальцификации плазм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) количество фибриногена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ru-RU" sz="2400" spc="-1" strike="noStrike" u="sng">
                <a:solidFill>
                  <a:srgbClr val="ffc000"/>
                </a:solidFill>
                <a:uFillTx/>
                <a:latin typeface="Arial"/>
              </a:rPr>
              <a:t>Эритроциты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красные форменные элементы, без яд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сто образования – красный костный моз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еднее время их жизни в кровеносном русл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в раннем неонатальном периоде составляет 12 дней, затем увеличиваетс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осле грудного периода эритроциты живут 120 дн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324000" y="4508640"/>
            <a:ext cx="2879640" cy="18111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6307200" y="3500280"/>
            <a:ext cx="283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рма и средние нормативные размер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ритроцит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– толщина по краям – 2-2,5 мк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 – толщина в центре – 1 мк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 – диаметр – 7,1-7,9 мк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4" descr="_eritric"/>
          <p:cNvPicPr/>
          <p:nvPr/>
        </p:nvPicPr>
        <p:blipFill>
          <a:blip r:embed="rId2"/>
          <a:stretch/>
        </p:blipFill>
        <p:spPr>
          <a:xfrm>
            <a:off x="3851280" y="3290760"/>
            <a:ext cx="21114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При оценке анализа периферической кров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ценить показатели красной крови (уровень 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число эритроцитов, цветовой показатель, количество ретикулоцитов, СОЭ, наличие анизоцитоза, сфероцитоза, поли-хроматофилов и т.д.) и сопоставить с возрастными норматива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ценить общее количество лейкоцитов, относительное и абсолютное содержание отдельных клеток и сопоставить с возрастной нормо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ценить количество тромбоцитов в относительных и абсолютных величинах, время свёртывания и время кровотеч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ценить СОЭ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делать общее заключение по анализу кров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Миелограмм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количественный и качественный состав клеток костного мозг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При оценке миелограмм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следует обратить внимание н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личество бластных клеток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отношение числа миелоидных и эритроидных клеток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личество зрелых и молодых форм гранулоцитарного ряда, их соотнош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личество лимфоци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личество мегакариоци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щее количество миелокариоци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При оценке коагулограмм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следует учест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ремя свёртывания венозной кров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ровень фибриноген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ктивность протромбинового комплекса общую и отдельных его компонентов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X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нижение активности других факторов свёртывания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I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 др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ровень свободного гепарина кров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ибринолитическую активность кров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ровень фактора Виллебранд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дгезивно-агрегационные свойства тромбоци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миотика и основные синдромы поражения органов кроветворения у де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миотика и основные синдромы поражения органов кроветворения у дете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7" descr=""/>
          <p:cNvPicPr/>
          <p:nvPr/>
        </p:nvPicPr>
        <p:blipFill>
          <a:blip r:embed="rId1"/>
          <a:srcRect l="0" t="32919" r="0" b="32919"/>
          <a:stretch/>
        </p:blipFill>
        <p:spPr>
          <a:xfrm>
            <a:off x="3276720" y="333360"/>
            <a:ext cx="54864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Жалобы (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I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Лихорадк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рисутствует во многих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ематологических заболеваниях у больных   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локачественной опухолью, с инфекцией на фоне ослабленного имунитета, с аутоимунным заболеванием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провождающиеся острым гемолизом. Могут быть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ознобы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отливост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Быстрая утомляемост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как правило не соответствует нагрузке; сопровождается мышечной слабостью и отдышкой при незначительных нагрузках. Характерно для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зличных форм анем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3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Жалобы (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II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3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Головные бол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часто сопровождаются головокружением, нарушением зрения и встречаются при: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немиях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сдавление головного мозга пр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ейкозах и лимфомах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кровоизлияние в мозг пр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еморогическом синдром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4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отеря в вес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характерно при: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емобластозах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особенно при злокачественных новообразованиях с метастазами в костный моз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имптомат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15640" y="22050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елтушность , бледность кож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ианоз; как правило центрального генеза. Встречается при эритремии, при Мет- или Сульфгемоглобинем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ронзовый оттенок (Гемокроматоз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жный зуд характерен при лимфогранулемотоз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имптомат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6920" y="2781000"/>
            <a:ext cx="4165920" cy="33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ru-RU" sz="2600" spc="-1" strike="noStrike">
                <a:solidFill>
                  <a:srgbClr val="cc0000"/>
                </a:solidFill>
                <a:latin typeface="Arial"/>
              </a:rPr>
              <a:t>Геморрагические проявления: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техиальные высыпания (тромбоцитопени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7" descr=""/>
          <p:cNvPicPr/>
          <p:nvPr/>
        </p:nvPicPr>
        <p:blipFill>
          <a:blip r:embed="rId1"/>
          <a:stretch/>
        </p:blipFill>
        <p:spPr>
          <a:xfrm>
            <a:off x="4140360" y="1700280"/>
            <a:ext cx="460980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имптомат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55280" y="2565000"/>
            <a:ext cx="3809880" cy="35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ru-RU" sz="2600" spc="-1" strike="noStrike">
                <a:solidFill>
                  <a:srgbClr val="cc0000"/>
                </a:solidFill>
                <a:latin typeface="Arial"/>
              </a:rPr>
              <a:t>Геморрагические проявления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Екхимозы</a:t>
            </a:r>
            <a:r>
              <a:rPr b="1" lang="ru-RU" sz="2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(геморрагический синдром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Picture 6" descr=""/>
          <p:cNvPicPr/>
          <p:nvPr/>
        </p:nvPicPr>
        <p:blipFill>
          <a:blip r:embed="rId1"/>
          <a:stretch/>
        </p:blipFill>
        <p:spPr>
          <a:xfrm>
            <a:off x="4716360" y="1341360"/>
            <a:ext cx="4073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Симптомат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9640" y="2781000"/>
            <a:ext cx="3810240" cy="31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ru-RU" sz="2600" spc="-1" strike="noStrike">
                <a:solidFill>
                  <a:srgbClr val="cc0000"/>
                </a:solidFill>
                <a:latin typeface="Arial"/>
              </a:rPr>
              <a:t>Геморогические проявления: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кротические поражения кож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7" descr=""/>
          <p:cNvPicPr/>
          <p:nvPr/>
        </p:nvPicPr>
        <p:blipFill>
          <a:blip r:embed="rId1"/>
          <a:stretch/>
        </p:blipFill>
        <p:spPr>
          <a:xfrm>
            <a:off x="3995640" y="1897200"/>
            <a:ext cx="460872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 u="sng">
                <a:solidFill>
                  <a:srgbClr val="ffc000"/>
                </a:solidFill>
                <a:uFillTx/>
                <a:latin typeface="Arial"/>
              </a:rPr>
              <a:t>Форма эритроцит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1) дискоциты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эритроциты обычной формы в виде диска с вогнутыми внутрь поверхностями с обеих сторон; в норме их 80% от общего количества эритроци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2) пойкилоцитоз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наличие эритроцитов разной, отличающейся от дискоцитов, формы (их в норме 20% - физиологический пойкилоцитоз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сфероциты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шарообразная форм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эхиноцит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имеют шип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планоцит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форма диска с ровной поверхностью и др.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3) патологический пойкилоцитоз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количество пойкилоцитов больше 20% от общего количества эритроцитов.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9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Симптомат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15640" y="2205000"/>
            <a:ext cx="698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ВС- синдр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ильтративные поражения кожи (лейкозы, лимфом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звенно-некротические поражения слизистой полости рта (острые лейкоз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9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Костно-суставные проя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58920" y="2276280"/>
            <a:ext cx="6480000" cy="29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ртри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ртралг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алг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мартроз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9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Увеличение лимфотических узл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15640" y="2205000"/>
            <a:ext cx="720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а) Поверхностных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б) Глубоких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диастинальные аденопатии могут сопровождаться сдавлением различных орган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гут провоцировать различные плевро-легочные поражения (одышка, кашель, кровохарканье, боли в грудной клетк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Общий осмот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ледность кожных покровов и видимых слизист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елтух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хость кожных покров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моррагические прояв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леды расче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формация и ломкость кост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величение периферических лимфоузл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9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Органы дых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тречаются жалобы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ыш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ше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овохаркань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ли в грудной клет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турационный синдром (ателектаз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величение ширины корня легк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левральные синдро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ердечно-сосудистая систе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1600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ронарный синдром (при анемиях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сширение сердца в поперечник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слушивается систолический шум (анемичны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ипотония, тахикардия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Органы пищевар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691344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86d1e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сфагия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(железодефицитная, пернициозная анемия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6d1e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знаки кровотечения из системы пищеварительного канала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(рвота кофейной гущей, мелена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знаки кишечной непроходим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епатомегал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леномегал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3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Мочеполовая систе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71600" y="25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86d1e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Болевой синдро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6d1e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Нефритический синдро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ематур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теинур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нем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состояние, для которого характерно уменьшение количества эритроцитов и содержания гемоглобина (отдельно или вместе обоих признаков) в единице объёма кров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новные группы анеми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по этиологическому фактору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 анемии вследствие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овопотер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постгеморрагические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 анемии вследствие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рушенного кровообразования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железодефицитные анемии (ЖДА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 анемии вследствие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вышенного кроверазруше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гемолитические анеми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Размеры эритроцитов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6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рмоциты – эритроциты средних нормальных размеров ( 75% от общего количеств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кроциты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 &gt; 8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,5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галоциты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 &gt; 9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5 мкм (редко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икроцит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d &lt;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6 мкм (до 12,5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изоцит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d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2-3 мкм (редко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Анизоцитоз – количество макро- и микроцитов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&gt;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2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7380360" y="1484280"/>
          <a:ext cx="1000080" cy="4530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80360" y="1484280"/>
                    <a:ext cx="100008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иды анемий по величине цветового показателя (ЦП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гипохромные (ЦП &lt; 0,8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нормохромные (ЦП 0,85 – 1,05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гиперхромные (ЦП &gt; 1,1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чины ЖД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экзогенная недостаточность желез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ребёнок не получает необходимого количества железа с пищей)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кзогенная недостаточность желез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о время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овышенной потребности организм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при инфекционных заболеваниях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эндогенная недостаточность желез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из-за нарушения его усвоения (заболевания желудочно-кишечного тракт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 степени ЖД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легка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b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- 110-90 г/л)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редня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b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- 90-70 г/л);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тяжела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b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- менее 70 г/л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зменения в крови при разных степенях ЖД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Лабораторные критерии анемии в неонатальном период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0 – 14 дней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145 г/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15 – 28 дней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120 г/л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0" y="1341360"/>
          <a:ext cx="8928000" cy="3327480"/>
        </p:xfrm>
        <a:graphic>
          <a:graphicData uri="http://schemas.openxmlformats.org/drawingml/2006/table">
            <a:tbl>
              <a:tblPr/>
              <a:tblGrid>
                <a:gridCol w="1366920"/>
                <a:gridCol w="1944720"/>
                <a:gridCol w="1944720"/>
                <a:gridCol w="1655640"/>
                <a:gridCol w="2016000"/>
              </a:tblGrid>
              <a:tr h="1133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еп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ем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ритроцитов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/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амет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ритроцитов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к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ветов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тикулоци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4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7 – 0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&lt;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&lt;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0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сновные жалобы и клинические признаки ЖД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 слабость, быстрая утомляемость или раздражительност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 головная боль, головокружение, шум в уша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) снижение остроты зрения и нарушения в виде «мушек» перед глазам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) снижение аппетита вплоть до анорексии; искажение вкуса – ребёнок ест мел, песок, глину, землю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) одышка и повышение частоты сердцебиения при физической нагрузк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) бледность, сухость кожи и слизистых оболоче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) ломкость волос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) нередко - недержание мочи при смехе, чихании; ночной энурез; диспепс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) задержка физического и нервно-психического развития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~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40%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) аускультация сердца – систолический шум, тахикардия, ослабление тонов сердц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1) снижение АД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2) при тяжёлых формах гепатолиенальный синдр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3) может быть субфебрилитет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4) снижение иммунитета – частые воспалительные процесс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немический синдром встречается при следующих состояния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трая постгеморрагическая анем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елезодефицитная анем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галобластные анемии (Витамин   В 12 и фолиево-дефицитные анемии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ипо-, апластические анем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емолитические анем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Врожденные гемолитические анем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мбранопатии (микросфероцитоз,овалоцитоз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ерментопатии (недостаточность Г-6-ФДГ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моглобинопатии (талассемия, серповидноклеточная анемия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обретённые гемолитические анем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 аутоиммунные ГА, гемолитическая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лезнь новорождённых, ПНГ и 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емобластоз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Острые лейкоз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Хронические лейкоз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Миеломная болез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еморрагические диатез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Гемофил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Болезнь Виллебран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Тромбоцитопении, тромбоцитопат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Геморрагический васкули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болевания ЖК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болевания поч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фекционные заболе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ипотирео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езни соединительной тка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еративные вмешатель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кушерские патолог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ронические воспалительные заболевания внутренних орган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равление свинц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езни пече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харный диаб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Лабораторные данные при ЖД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 уменьшение количества эритроцитов и содержания гемоглобин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 пойкилоцитоз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 анизоцитоз, микроцитоз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) могут быть незрелые эритроциты (эритро-, нормо-, мегалобласты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) через некоторое время ретикулоцитоз – признак положительный, что указывает на хорошую регенераторную способность костного мозга в ответ на анем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емолиз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процесс разрушения эритроцитов, при котором гемоглобин выходит из них в плазм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Гемолиз эритроцито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роисходит в крови и в норме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физиологический гемолиз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возникающий при естественном старении эритроци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Гемолиз патологического генез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жет возникнуть под влиянием разных фактор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Гемоглобин =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b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это сложный белково-пигментный комплекс, входящий в состав эритроци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остав гемоглобин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 гем (небелковая часть – в нём есть железо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 глобин (белковая часть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b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+ О</a:t>
            </a:r>
            <a:r>
              <a:rPr b="1" lang="ru-RU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–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разуется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ксигемоглоби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в тканях этот кислород отдаётся всему организм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b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+ СО</a:t>
            </a:r>
            <a:r>
              <a:rPr b="1" lang="ru-RU" sz="28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(часть) –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разуется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карбгемоглобин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большая часть СО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носится плазмой крови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Гемоглобин осуществляет транспорт О</a:t>
            </a:r>
            <a:r>
              <a:rPr b="1" lang="ru-RU" sz="28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из лёгких в ткани и СО</a:t>
            </a:r>
            <a:r>
              <a:rPr b="1" lang="ru-RU" sz="28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из тканей в лёгкие – дыхательная функция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олняемая эритроцит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кзоэритроцитарные гемолитические фактор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1) гемолитические яды и токсины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 зме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 глисты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 насекомые – пчёлы, скорпион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 соединения мышьяка, производные бензол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 многие виды бактерий 0 обладают возможностью образования гемотоксин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) переливание крови и резус-несовместимой кров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3) врачебные ошибки – при внутривенном введении гипотонических растворов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4) тяжёлые инфекционные заболевания (сепсис, малярия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5) значительные ожог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6) некоторые в/в введения (гипотонический раствор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7) наличие антител к эритроцитам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мер гемолиза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гемолитическая болезнь новорождённог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зникает с момента рождения в первые часы и дни жизни ребё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ивается болезнь в том случае, если у беременной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h(-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женщины муж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h(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а эритроциты плода содержат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h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фактор, унаследованный от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h(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отц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ндоэритроцитарны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емолитические фактор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врождённые заболе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риобретённые наруш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емолитический синдро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проявление группы заболеваний, общим признаком которых является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усиленный гемолиз эритроцит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что приводит с одной стороны к анемии и повышенному образованию продуктов распада эритроцитов, а с другой – к усиленному эритроцитопоэзу, как компенсаторной реакции на возникшую анем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сновные признак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молитического синдром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линическ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тяжёлое общее состояние (высокая температура, головная боль, боль в мышцах и суставах, нарушение сознания – коллапс, коматозное состояние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бледност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иктеричность лимонного цвета на фоне бледн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дышка (гипоксия на фоне анемии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увеличение печени и селезёнк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ие лабораторные анализы кров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ормохромная анем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дегенеративные изменения эритроцитов – пойкило-, анизо-, шизоцитоз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гипергемоглобинемия (повышенное количество свободного гемоглобина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лейкоцитарная формула – нейтрофильный лейкоцитоз со сдвигом влево (иногда до промиелоцитов и миелобластов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гипербилирубинемия за счёт непрямого билирубин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большое количество сывороточного желез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в дальнейшем – ретикулоцитоз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ализ моч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гемоглобинурия (гемоглобин в моче – именно он даёт ей чёрный цвет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стеркобилиноген, уробилиноген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ализ кал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увеличение стеркобилиноге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ВС-синдром (синдром диссеминированного внутрисосудистого свёртывания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сложный неспецифический патологический симптомокомплекс, в основе которого в первую очередь лежит поступление в сосудистое русло экзо- и эндогенных факторов, активизирующих систему свёртывания крови и агрегацию тромбоцитов в жизненно важных органах, что вызывает в них дисфункц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болевания, при которых развивается ДВС-синдро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1) генерализованные инфекции бактериальной и вирусной этиологии (сепсис – 50% по частоте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) эмболия околоплодными водам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3) шоковые состоян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4) ожог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5) значительное обезвоживание (кровопотери, диспептические расстройства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6) травмы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7) дистрофические изменения органов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8) острый внутрисосудистый гемолиз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9) злокачественные заболеван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10) заболевания крови (геморрагический васкулит, лейкоз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11) укус змеи и некоторых насекомых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12) массивные гемотрансфузи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13) аллергические реакции медикаментозной и другой этиологи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14) связь крови  с посторонней поверхностью (аппарат гемодиализа, искусственного кровообращения).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щие закономерности патогенеза и клинических признак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) начальное в процессе синдрома –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поступление в кровоток тканевого тромбопластин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фактор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, затем через фактор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т.д. активизируется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нешний механизм гемостаз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Другие факторы через активацию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I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фактора свёртывания крови вызывают активацию внутреннего механизма гемостаз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) в конечном результате крови образуется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много микросгустков фибрин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которые тромбируют сосуд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) иногда быстро, иногда медленно, в результате этого происходи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арушение микроциркуляции за счёт значительного микротромбообразования в органах (в сердце, в головном мозге), что приводит к гипоксии и нарушению функции внутренних орган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развитие метаболических нарушен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ыраженная дистрофия орган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дукты белкового распада, которые образовались при этом, вызывают выраженную интоксикацию в организм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кзогенный фактор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бактерии, вызвавшие заболевание, лекарственные препараты, яд змеи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ндогенный фактор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тканевой тромбопластин, продукты распада тканей, клеток крови, повреждённый эпител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ервый момент процесса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ВС-синдрома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эндогенный фактор активирует систему свёртывания крови и тромбоцитарный гемостаз, что приводит к нарушению кровообращения в тканях организ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торой момент процесса ДВС-синдрома 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исходит последующее истощение основных компонентов гемостаза, что клинически проявится кровоизлияниями и кровотечени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аз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ВС-синдро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фаза – фаза гиперкоагуляции и агрегации тромбоцит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гипертермия, бледность и мраморность кожных покровов, судорожный синдром, возможна петехиальная сыпь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нимание!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Затруднения взятия крови из вены, свёртывание крови в игле, быстрое тромбирование вен при инъекции, наличие петехий, кровоизлияния в местах инъекций, на местах манжетки при измерении АД, при пальпации, разные виды кровотечений должно навести врача на мысль о ДВС-синдром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фаза – переходная фаз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 нарастающей коагулопатией и тромбоцитопенией, разнонаправленными сдвигами в общих коагуляционных тест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II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фаза – фаза глубокой гипокоагуля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плоть до полного несвёртывания кров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V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фаза- фаза восстановительна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а при неблагоприятном течении фаза осложнений или летального исхода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еморрагический синдро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клиническое проявление склонности организма к неоднократным кровотечениям и кровоизлияниям как под влиянием незначительного травмирования, так и самопроизвольн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акторы, принимающие участие в процессе гемостаз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 свёртывающая система кров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 количество и качество тромбоци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 сосудистая стенка (в норме форменные элементы через неё не проходят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лассификация геморрагических диатез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в зависимости от преобладания в патогенезе заболевания повреждения одного из трёх факторов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 коагулопатии (гемофилия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 тромбоцитопатии (болезнь Верльгофа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 вазопатии (в основе – поражение сосудистой стенки – болезнь Шенлейна-Геноха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3:00:21Z</dcterms:created>
  <dc:creator>крок</dc:creator>
  <dc:description/>
  <dc:language>en-US</dc:language>
  <cp:lastModifiedBy>gema-ord-7</cp:lastModifiedBy>
  <dcterms:modified xsi:type="dcterms:W3CDTF">2021-10-28T06:31:13Z</dcterms:modified>
  <cp:revision>129</cp:revision>
  <dc:subject/>
  <dc:title>Слайд 1</dc:title>
</cp:coreProperties>
</file>