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36B4-86AF-497E-BAAC-D5CC650A64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F088-CCF9-438F-9DA1-B351DBA50BC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947-7DE3-4ABE-9337-BFA58EB3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631-2C37-4AA5-BFF2-6EA5C4DB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182-9B6F-40B0-A2FA-A064BCFF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D0B-8DDF-4C12-BCC6-88AE638A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531A-0AB9-425D-8022-4291686D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35C5-B67B-4898-9E04-B5896DA6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F0FA-CBC2-4EBD-8634-457B6F4D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A159-8473-4137-8C92-A726BA8E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5A95-8CD3-4063-9E29-FE26C40E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2EF0-E45E-4052-A1B5-A430F127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7B5E-10CB-40F3-B0AD-981F000D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B26-0C68-41C1-A502-D5131292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A83F-3336-4B30-8DD7-FFB4CD6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1492-0C65-4E22-9FE2-27349E23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EB08-3498-4EB1-9358-DE5E2034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9B00-6281-495F-932C-BE3B34BB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0558-66A3-4981-8573-C37387C9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FBA-61EC-409D-9152-E555934F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D89-2187-4D10-B066-9BAF2085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DE7-EB0E-413B-A962-40A1A7F1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598-C532-4D63-BA58-C27D14B7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B5D-17B0-4636-8E0A-0B7B494B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82A-A700-4F86-A757-696167B1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F83-E5FE-42F0-BF46-BEC097D5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938E-8736-4CCC-B81F-D65D4AAA7B93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9829-3EE2-47EB-AD91-7054FD511D2E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105200" y="1114920"/>
            <a:ext cx="7509600" cy="13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ДИАБЕТИЧЕСКИЕ КОМ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24000" y="522936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.М. Фархутдинов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афедра терапии и общей врачебной практики с курсом гериатрии ИДПО БГМ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635280" y="306864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екц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69120" y="761400"/>
            <a:ext cx="7997760" cy="95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егидра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83170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0,9 % физиологический раство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корость введения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1-й литр – за 1 ча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2-й литр за 2 ча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3-й литр – за 3 час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затем 0,25–0,5 литра в ча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онтроль скорости регидратации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ЦВД (центральное венозное давление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линические признаки (аускультация легких, каротидный пульс, состояние периферических артерий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диурез (объем инфузии в час не должен превышать часовой диурез более, чем на 0,5–1 л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снижении гликемии до 13 ммоль/л – регидратация 5 % раствором глюко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69120" y="761400"/>
            <a:ext cx="7997760" cy="95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Коррекция электролитного баланса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и кислотно-щелочного состояни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838836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епараты калия под контролем калия крови (контроль – 2 раза  в сутк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ипокалиемия ─ остановка сердца в диастолу, атония дыхательной мускулатуры и кишечник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иперкалиемия ─ остановка сердца в систолу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ое лечение метаболического ацидоза – инсулинотерап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казание к введению бикарбоната натрия – рН&lt;7 (норма –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7,35–7,4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ведение бикарбоната натрия без определения р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отивопоказан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иперосмолярная ко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Характерн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зко выраженная гипергликемия (выше 3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моль/л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высокая осмолярность плаз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ко выраженная дегидратац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отсутствие кетоза и ацидоз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воцирующие факт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езвоживание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рвота, диарея, лихорадка, применение диуретиков , ограничение употребления жидкости, массивное кровотечение, обширные ожоги, тепловой и солнечный удар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ругие острые заболевания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инфаркт миокарда, инсульт, тромбоэмболия легочной артерии, операции, травмы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жилой возра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ин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Жалобы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выраженная полиурия (впоследствии часто олигурия-анурия), выраженная жажда (у пожилых может отсутствовать), слабость, головные бол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бъективн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выраженные симптомы дегидратации и гиповолемии (сухость кожи и слизистых, сниженный тургор  кожи, тахикардия, артериальная гипотония вплоть до коллапса, сонливость). Запаха ацетона не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собенность клиники – полиморфная неврологическая симптоматика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судороги, дизартрия, парезы и параличи, гемианопсия и т.д.), которая не укладываются в четкий синдром, изменчива и исчезает при нормализации осмолярности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если при снижении гиперосмолярности симптомы не уменьшаются показана компьютерная томография головного мозг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абораторные изме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бщий анализ кров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лейкоцитоз, повышенный гематокри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бщий анализ моч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массивная глюкозурия, возможна протеинурия, кетонурии не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иохимический анализ кров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крайне высокая гипергликемия, высокая осмолярность плазмы – &gt; 320 мосмоль/л, повышение натрия, возможно снижение калия, повышение креатинина (почечная недостаточность на фоне гиповолемии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ислотно-щелочное состояние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ацидоза нет (рН&gt;7,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счет осмолярности плазмы (норма 285 – 295 мосмоль/л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2 (натрий, ммоль/л + калий, ммоль/л) + глюкоза, ммоль/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е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егидратац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нсулинотерап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осстановление электролитного баланс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егидратация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0,9 % раствор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C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собенности инсулинотерапи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очень малые дозы (0,5–2 ед/час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ефицит калия более выражен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чем при кетоациодической ком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ипогликемическая ко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ипогликемия – клинический синдром, развивающийся при снижении сахара крови ниже уровня, к которому адаптирован организ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ак правило, симптомы гипогликемии наблюдаются при гликемии 2,8 ммоль/л и мене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Причины гипогликемии при сахарном диабете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440" y="2420640"/>
            <a:ext cx="84582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рушение условий лечения СД: несоответствие инсулина количеству углеводов (передозировка инсулина или пероральных препаратов, недостаточное поступление углеводов или их повышенная утилизаци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ложнения СД: почечная недостаточность (дефицит инсулиназы), автономная нейропатия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бют сахарного диабе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812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Недиабетические  гипогликемии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2276640"/>
            <a:ext cx="84582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ункциональная гипогликем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асстройство вегетативной нервной систем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Операции на желуд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Этаноловая гипогликем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Ожире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Новорожденные от матерей с С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Пожилой возра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рганическая гипогликем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Инсулинома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иабетическая кетоацидотическая ко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84872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трая декомпенсация сахарного диабета с развитием нарушения созн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Характеризуется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гипергликемией &gt;13,9 ммоль/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етонурией ≥ 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таболическим ацидозом рН&lt;7,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812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Патогенез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440" y="2276640"/>
            <a:ext cx="84582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юкоза – основной энергетический источник для жизни клет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ипогликемия вызывает выброс гормонов стресса (катехоламинов, кортизола, глюкагона), обусловливающих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адренэргические симптом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фицит глюкозы в клетках мозга вызывает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ейрогликопенические симптом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812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Клиника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440" y="2276640"/>
            <a:ext cx="84582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дренергические и нейрогликопенические симптомы могут сочетаться или быть изолированным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тсутствие предвестников комы в виде этих симптомов возможно при развитии автономной нейропатии с поражением вегетативной нервной системы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71640" y="2421000"/>
          <a:ext cx="7488000" cy="2965320"/>
        </p:xfrm>
        <a:graphic>
          <a:graphicData uri="http://schemas.openxmlformats.org/drawingml/2006/table">
            <a:tbl>
              <a:tblPr/>
              <a:tblGrid>
                <a:gridCol w="3743280"/>
                <a:gridCol w="3744720"/>
              </a:tblGrid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ренергические симптомы</a:t>
                      </a:r>
                      <a:endParaRPr b="1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йрогликопенические симптомы</a:t>
                      </a:r>
                      <a:endParaRPr b="1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хикардия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стения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спокойство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оловная боль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ожь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зориентация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лодный пот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воение в глазах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увство голода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веденческие нарушения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66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ливация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рушение сознания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266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арея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удороги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265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ильное мочеиспускание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еходящие параличи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55224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А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812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Диагностик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440" y="2276640"/>
            <a:ext cx="84582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имптомы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Гипогликем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Купирующий эффект приема углеводов или введения глюкозы («на конце иглы»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812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Лечение</a:t>
            </a:r>
            <a:endParaRPr b="1" lang="en-US" sz="3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2276640"/>
            <a:ext cx="84582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егкая гипогликем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ием 1</a:t>
            </a: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 ХЕ простых углеводов: 3–5 кусков сахара, 1–1,5 столовых ложки варенья или меда, 100–200 мл фруктового сока, 4–5 таблеток глюкоза (по 3–4 г), 1–2 тубы с углеводным сиропом (по 13 г). Дополнительно съесть 1–2 ХЕ медленно усваиваемых углеводов (хлеб, каша и т.д.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яжелая гипогликем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/в струйно 40–100 мл 40 %-ного раствора глюкозы до восстановления созна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льтернатива – 1 мг глюкагона п/к или в/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сли сознание не восстанавливается – в/в капельное введение 5 %-ного раствора глюкозы до нормализации гликем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ти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84872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тсутствие введения инсулина или его неэффектив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ераспознанный диабе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тказ от лечен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тсутствие препарат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мена инсулина на менее эффективны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величение потребности в инсулин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Заболевания, операции, травм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ерапия глюкокортикоида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(Частые причины – пиелонефриты, пневмонии, инфаркты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Патогенез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84872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иперкетонемическая кома – это крайняя степень декомпенсации сахарного диабе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азвитию гиперкетонемической комы предшествует усиление выраженности симптомов диаб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250920" y="1773360"/>
            <a:ext cx="8893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ышение глюкозы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крови и моче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12920" y="93600"/>
            <a:ext cx="7736760" cy="129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мптомы гипергликем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Text Box 94"/>
          <p:cNvSpPr/>
          <p:nvPr/>
        </p:nvSpPr>
        <p:spPr>
          <a:xfrm>
            <a:off x="2987640" y="177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95"/>
          <p:cNvSpPr/>
          <p:nvPr/>
        </p:nvSpPr>
        <p:spPr>
          <a:xfrm>
            <a:off x="2987640" y="1628640"/>
            <a:ext cx="3384720" cy="107964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99"/>
          <p:cNvSpPr/>
          <p:nvPr/>
        </p:nvSpPr>
        <p:spPr>
          <a:xfrm>
            <a:off x="4643280" y="2708280"/>
            <a:ext cx="0" cy="360360"/>
          </a:xfrm>
          <a:prstGeom prst="line">
            <a:avLst/>
          </a:prstGeom>
          <a:ln w="31680">
            <a:solidFill>
              <a:srgbClr val="0033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00"/>
          <p:cNvSpPr/>
          <p:nvPr/>
        </p:nvSpPr>
        <p:spPr>
          <a:xfrm>
            <a:off x="1258920" y="3068640"/>
            <a:ext cx="7499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иурия (мочеизнурение)                                       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идипсия (жажда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ухость кожи и слизистых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худание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етоацидоз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104"/>
          <p:cNvSpPr/>
          <p:nvPr/>
        </p:nvSpPr>
        <p:spPr>
          <a:xfrm>
            <a:off x="1979640" y="3078000"/>
            <a:ext cx="5184720" cy="3313440"/>
          </a:xfrm>
          <a:prstGeom prst="rect">
            <a:avLst/>
          </a:prstGeom>
          <a:noFill/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гидратация мозга – основная причина нарушения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242100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фицит жидкости достигает 6–10 литр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гидратация наряду с инсулинотерапией является главным терапевтическим подходом в лечении кетоацидотической ко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догоспитальном этапе регидратация является первоочередной мерой помощи. Инсулин вводится только при возможности контроля гликем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69120" y="761400"/>
            <a:ext cx="7997760" cy="95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агности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83170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нована на признаках декомпенсации сахарного диабета и дегидратаци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егидратаци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    жажда, сухость кожи и слизистых (язык как «наждачная бумага»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рганы дыхания – дыхание Куссмаул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ердечно-сосудистая система – снижение АД, тахикард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желудочно-кишечный тракт – отсутствие аппетита, тошнота, рвота, боль в живот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чевыделительная система – олиго- и анур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центральная нервная система – нарушение сознания вплоть до ком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АК – повышение гематокрита, лейкоцито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АК – гипергликемия, возможно повышение креатинина, ферментов (трансаминаз, креатинфосфокиназы, амилазы), натрия, снижение кал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ЩС – метаболический ацидо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69120" y="761400"/>
            <a:ext cx="7997760" cy="95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е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83170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нсулинотерап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гидрат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ррекция электролитного баланса и кислотно-щелочного состоя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69120" y="761400"/>
            <a:ext cx="7997760" cy="95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сулинотерап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83170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ервая доза – 20 ед инсулина короткого действия (10 ед – в/в, 10 ед – в/м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Затем 0,1ед/кг/час (инфузомат или в/в болюсно 1 раз в час или в/м 1 раз в час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редняя доза – 6 ед/час (5–10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нтроль гликемии 1 раз в час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корость снижения гликемии – 4 ммоль/л/час (выше 4 ммоль/л/час – пропустить инъекцию инсулина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елевая гликемия в первые сутки – 13–15 ммоль/л (снижение гликемии до 15 ммоль/л – доза инсулина уменьшается вдвое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елевая гликемия во вторые третьи сутки – 10–12 ммоль/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еревод на п/к введение инсулина: при улучшении состояния, стабильной гемодинамике, гликемии ≤11–12 ммоль/л, рН&gt;7,3 (ИКД каждые 4–6 часов с ИПД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риентировочный расчет дозы ИКД по уровню гликемии: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- доза инсулина = гликемия/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- доза инсулина = (гликемия – 6)/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7T19:45:49Z</dcterms:created>
  <dc:creator>Пользователь Microsoft Office</dc:creator>
  <dc:description/>
  <dc:language>en-US</dc:language>
  <cp:lastModifiedBy>1</cp:lastModifiedBy>
  <dcterms:modified xsi:type="dcterms:W3CDTF">2018-02-27T18:46:39Z</dcterms:modified>
  <cp:revision>146</cp:revision>
  <dc:subject/>
  <dc:title>САХАРНЫЙ ДИАБЕТ</dc:title>
</cp:coreProperties>
</file>