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524-AB7C-45F7-91D2-E23ABF4B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D68-AE69-4F73-BB95-31F4BDE7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09C-9786-4496-BBD5-8AEF61D6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D7A-E517-4625-AD83-17D27006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A343-B060-48D1-B720-561D5E70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96E0-39A7-48AB-A3A8-A8D90331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9347-CE86-45C8-B068-9DB62F74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8DC-A296-4B4D-B17B-316F7F3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8E1A-3F2A-4055-92D7-9F3263FA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8806-ABF9-4CF6-9B00-F6F02F2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0660-9397-4081-8A26-D7F01204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1DD-E675-4E2B-B269-37B4C986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E745-041E-4646-A2E1-49DB1A97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A3F-04A8-470E-8AA7-2ACC366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67F-1084-472F-8690-9460B64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89B6-CD66-4C35-92CD-BD034685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2A1A-4508-43F0-9205-332E5BC4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618-2CC6-4C57-BE84-1B901C8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F95-D34D-49E3-BC82-14ECA69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B90-F20C-4F08-8AE5-6FD15A2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F70-A08D-424A-AA78-4732B3F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FC2-CA5F-48DD-AD6D-82861B3A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4C9-B31C-4FFC-9224-05A953C0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609-F12D-4CA4-9971-62D178C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C052-6E62-4CAA-A896-BEB2633A5A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BB1F-DE19-4B56-93D9-49FD2DD263A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55520" y="1316160"/>
            <a:ext cx="5662440" cy="12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Гипотиреоз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000" y="522936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М. Фархутдин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федра терапии и общей врачебной практики с курсом гериатрии ИПО БГМ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635280" y="2924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лекц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убклинический гипотиреоз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енный уровень ТТГ в сочетании с нормальным своб. тироксин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убклиническ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гипотиреоз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 применение заместительной терапи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орн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 выявлении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клинического гипотиреоз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беременных ле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ироксин назначается в полной дозе немедленн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Лечени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 70-х годо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применялась резекция ЩЖ для уменьшения антителообразования и в связи с предполагаемым высоким риском озлокачествления – до 70 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глюкокортикоидов не оправдано из-за необходимости использования больших доз, при которых риск превышает положительный эффект от ле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настоящее время методы воздействия на аутоиммунный процесс – отсутствуют. Принцип лечения –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местительная терап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57160" y="857160"/>
            <a:ext cx="80359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потиреоз стал первым эндокринным заболеванием, при котором осуществлена идея заместительной терап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1891 г. впервые был применен экстракт ЩЖ овцы для лечения больных с недостаточностью щитовидной желез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19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г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ирокс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был получен синтетическим путе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28800" y="64296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рапи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водитс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епаратами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в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ироксина (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роксин,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тирок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птимальная начальная доза – 25 мкг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ут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последующим увеличением 1 раз в месяц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на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з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нем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100–150 мкг/сут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нтроль ТТГ проводится через 2–3 месяца от начала терапии, затем 1 раз в год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чение не должно нести больше риска, чем болезнь, что особенно важно у лиц старшего возраста и при сопутствующей кардиальной патоло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этих случая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начальная доза – 6,25–12,5 мкг/сут с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личением 1 раз в 2 меся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убклинический гипертиреоз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убклинический гипертиреоз – сниженный уровень ТТГ в сочетании с нормальным свободным тироксин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шлом субклиническому гипертиреозу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 придавали особого значения,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 необходимости уменьшения дозы ориентировались по признакам тиреотоксико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настоящее время доказано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бклинический гипертиреоз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ожет вызывать остеопороз и аритмии серд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и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тоиммунный тиреоид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иреоидэкто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чение радиоактивным иод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ое клиническое значение принадлежит аутоиммунному тиреоидит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628640"/>
            <a:ext cx="8748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28800" y="856800"/>
            <a:ext cx="82152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утоиммунный тиреоидит (зоб Хашимот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ис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атоло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м Хашимот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в 1912 г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 гистологическом исследовании щитовидных желез, удаленных у 4-х больных диффузным зобом, Хашимото обнаружил: диффузную инфильтрацию лимфоцитами и деструкцию тиреоцитов с замещением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единительной ткань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днее был описан атрофический вариант аутоиммунного тиреоидита, при котором объем ЩЖ не превышал 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ru-RU" sz="28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нее </a:t>
            </a:r>
            <a:r>
              <a:rPr b="0" lang="ru-RU" sz="2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идиопатическая микседема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56800" y="999720"/>
            <a:ext cx="82868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зва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«аутоиммунн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ый тиреоиди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т.к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ыворотке больных зобом Хашимото обнаружен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ы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антите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56 г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первой половине XX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 АИ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читалс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редким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перь </a:t>
            </a:r>
            <a:r>
              <a:rPr b="0" lang="ru-RU" sz="2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н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из наиболее распространенных форм тиреоидной патолог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астота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ИТ 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детей составляет 2–4 %, увеличивается с возрастом, достиг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у женщин старше 60 лет 10</a:t>
            </a:r>
            <a:r>
              <a:rPr b="0" lang="ru-RU" sz="2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%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322440" y="45720"/>
            <a:ext cx="271656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лини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56800" y="856800"/>
            <a:ext cx="8286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новные синдромы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неврологическ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сердечно-сосудисты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желудочно-кишечн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врологическ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 заторможенность, вялость, снижение настроения, сухая кожа, зябкость, плохая переносимость низких температу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дечно-сосудисты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 брадикардия, отеки (муцинозные), накопление жидкости в полостях (гидроперикард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Желудочно-кишечны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 снижение аппетита, увеличение веса (пониженный обмен в сочетании с задержкой жидкости), запо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Диагности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рмональное исследование: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вышение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иреотропного гормона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и снижение свободного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ирокси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вышение титра антител к тиреопероксидазе (ТПО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Гипофиз - ТТГ"/>
          <p:cNvPicPr/>
          <p:nvPr/>
        </p:nvPicPr>
        <p:blipFill>
          <a:blip r:embed="rId1"/>
          <a:stretch/>
        </p:blipFill>
        <p:spPr>
          <a:xfrm>
            <a:off x="2189160" y="565200"/>
            <a:ext cx="4767120" cy="572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струментальные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ЗИ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ффузная неоднородность с чередованием гипо- и гиперэхогенных участков, уменьшение кровотока (гиперэхогенность обусловлена замещением фолликул соединительной тканью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цинтиграфия ЩЖ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нижение поглощения и неравномерное распределение изотоп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Диагностические критерии АИТ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вичный гипотиреоз (клинический или стойкий субклинический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антител к ткани ЩЖ и ультразвуковые признаки аутоиммунной патоло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выявлении субклинического гипотиреоза для подтверждения необходимо повторное исследование ТТГ через 3–6 ме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лавное клиническое значение АИТ – развитие гипотирео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9:01:24Z</dcterms:created>
  <dc:creator>Admin</dc:creator>
  <dc:description/>
  <dc:language>en-US</dc:language>
  <cp:lastModifiedBy>User</cp:lastModifiedBy>
  <dcterms:modified xsi:type="dcterms:W3CDTF">2018-12-07T07:18:15Z</dcterms:modified>
  <cp:revision>88</cp:revision>
  <dc:subject/>
  <dc:title>Гипотиреоз</dc:title>
</cp:coreProperties>
</file>