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2B7-8B52-4684-8796-F8017702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CF7-C12F-4A00-9661-752087A3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2FD-12E8-4279-9B90-E0910EF7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554-9DCD-4CD1-9AA1-FC1D069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13EE-BCE0-4E06-A213-9ECA69C4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1B59-0421-4ADC-94FF-3708A88E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E89-4DEB-4EFC-98C8-08206CF5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C2D-BB30-4920-ABB4-9CE6ED36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B03D-DC20-4977-9142-D8BD224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549-A47A-455E-AAD5-2D276F18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D4B-9E12-4F19-B155-C2D94A7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6EA-D6E1-4CE3-AA5B-933BE2B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5085-4748-4D0B-97F8-D88BBC1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4D82-9159-4285-AA02-6635313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6E82-1DF7-4BA0-ADEB-92B0044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E3C-87AC-4B1B-8D49-A86920EE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673-15D2-4D9D-B110-3FB42DCA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C37-C1F1-4DAD-978E-71F32E85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76A-D32B-4971-9FA3-3531110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2EC-7A12-487F-AF2B-8DE2BD24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C5A-88C5-48EA-9B0F-8B764D53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1DE-1385-4560-A741-5AB56A6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05A-DAF6-4F83-8D44-D7184A0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DED-484E-4A0F-B325-42EE7ECB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E3BC-F425-4D9F-8F41-B0FF04CA7C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88AF-B96E-4F06-AE35-B333B2BAD3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Узловой зоб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000" y="522936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Л.М. Фархутдинова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, кафедра терапии и общей врачебной практики с курсом гериатрии ИПО БГМ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ормы рака щитовидной желез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0–85 %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апиллярный ра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–15 % – фолликулярны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 % – медуллярн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% – низкодифференцированны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,1–0,2 % – недифференцированный (анапластическ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пиллярный и фолликулярный формы рака являются высокодифференцированными и характеризуются сравнительно медленным течением и благоприятным прогнозом: 10-летняя выживаемость составляет 90 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дуллярный рак щитовидной желез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Картинки по запросу с-клетки щитовидной железы"/>
          <p:cNvPicPr/>
          <p:nvPr/>
        </p:nvPicPr>
        <p:blipFill>
          <a:blip r:embed="rId1"/>
          <a:stretch/>
        </p:blipFill>
        <p:spPr>
          <a:xfrm>
            <a:off x="1752480" y="2362320"/>
            <a:ext cx="6553440" cy="436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едуллярный рак щитовидной железы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исходит из парафолликулярных (С-клеток) щитовидной желе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30 % случаев связан с наследственностью (онкомутация в ге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T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чение отличается агрессивность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отсутствии метастазов 10-летняя выживаемость составляет 90 %, при наличии метастазов – не превышает 40 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иболее информативным методом диагностики является определение кальцитонина кров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дозрении на медуллярный рак проводят анализ на кальцитонин, мутацию гена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T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раковый эмбриональный антиг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обнаружении мутации в ген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T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бследуют ближайших кровных родственников на наличие мут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перации – тиреоидэктомия с лимфодиссекци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ыявлении узлов ЩЖ наряду с определением ТТГ рекомендуется определение уровня кальцитонина кров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инические симптомы медуллярного рака щитовидной желез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дним из эффектов кальцитонина является стимуляция секреторной функции кишечника, что приводит к развитию диареи в 30% случа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дуллярная карцинома продуцирует целый ряд других биологически активных веществ: простагландины и серотонин, которые могут вызывать сосудистые реакции в виде покраснение лица, «приливов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еч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ежние годы узловой зоб был показанием к оперативному лечению, при этом частота рецидивов узлов после оперативного лечения составляет от 20 до 80 %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ее время наиболее распространенным методом курации больных с бессимптомным эутиреоидным узловым зобом является активное наблюдение с ежегодной пальпацией ЩЖ, при необходимости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ением уровня ТТГ, УЗ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7848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 показанием к оперативному лечению узлового зоба являются крупные узловые образования с явлениями компрессии и (или) косметическим дефек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ой хирургическому лечению при кистозной дегенерации узла и аденоме ЩЖ является этаноловая деструкция узловых образований. Применение этого метода считается оправданным только при наличии противопоказаний к оперативному лечен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зловой зоб – очаговое образование в щитовидной железе, определяемое пальпаторно или с помощью визуализирующего исследован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агноз «узловой зоб» устанавливается при размере образования 1 см и более, при меньшем диаметре обнаруженный очаг расценивают как «фокальное изменение» ЩЖ, которое не выносится в диагно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Узловой зоб – понятие собирательное, применимо до цитологической верификации диагноз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 результатам цитологического исследовани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6 %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узловой зо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 %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ухоли (доброкачественные и злокачественные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то самая распространенная патология щитовидной желез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пальпации узлы обнаруживаются у 5 %, по данным УЗ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5 % обследован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ньше проблема узлового зоба ассоциировалась с раком (считалось, что онкологический риск составляет 30 %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вязь рака ЩЖ с зобной эндемией не подтвердилас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кологический риск при выявлении узлов ЩЖ не превышает 4 %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атогенез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зловой зоб, предполагается, обусловлен недостатком иода, о чем свидетельствует более высокая частота этой патологии в иоддефицитных регион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женщин узлы встречаются в 10 раз чаще, чем у мужч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возрастом распространенность узлового зоба увеличивается и составляет у детей 0,5–1,5 %, после 50 лет – примерно 50 % и к 80 годам – около 80 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злы, возможно, являются результатом естественных дегенеративных процессов в тиреоидной тка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80769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новное клиническое значение узлового зоба – формирование функциональной автономии узл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ФА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ункциональная автономия – способность узлов продуцировать гормоны независимо от регулирующего влияния ТТ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злы становятся автономными через десятилетия после их образования, то есть это патология старшей возрастной групп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ссовая иодная профилактика сопряжена с риском развития иодиндуцированного тиреотоксикоза у пожилых, в том числе со смертельным исход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определения размера и числа узлов применяется УЗ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оценки функциональной активности узлов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– определение ТТГ и сцинтиграфия 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вный метод диагностики функциональной автономии узл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пьютерная томография показана при загрудинной локализации зоба, признаках компрессии трахе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ЗИ-признаки злокачественности уз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ипоэхогенная солидная структу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овный, нечеткий или полициклический конту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чечные гиперэхогенные включения (микрокальцинаты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обладание высоты узла над ширин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ходство ткани лимфоузла с тканью щитовидной желез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одозрении на онкологию оценивают подвижность голосовых складок (при невозможности оценить по УЗИ – ларингоскоп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дежные критерии диагностики злокачественных изменений по УЗИ и сцинтиграфии отсутствую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дифференциальной диагностики доброкачественных и злокачественных образований применяется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онкоигольная аспирационная биопсия (ТАБ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д контролем УЗ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чность, чувствительность и специфичность ТАБ составляют около 90 %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1</cp:lastModifiedBy>
  <dcterms:modified xsi:type="dcterms:W3CDTF">2019-01-16T19:15:06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