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C492-A0D2-48C9-9F8F-4E2C88C6F8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72C9-B5A4-477B-9FA9-C8D21268774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4333-06AE-4D2E-8C70-1EEC29F705E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9F59-E899-4ABB-BC5E-52E90569882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E93B-717A-41EA-848E-66366A4C344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ABD6-ABA6-4C5B-AF5D-C32E9599BEE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данным Международной Диабетической Федерации 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ternational Diabetes Federation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DF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к началу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в мире насчитывалось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7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лн пациентов с сахарным диабетом (СД), т.е. распространенность заболевания составила 8,3%.  Эта цифра дана без учета 530 млн людей во всем мире с нарушением толерантности к глюкозе, которые с высокой долей вероятности могут пополнить группу больных СД. Данные статистики показывают, что каждые 7 секунд в мире умирает один больной СД и вновь заболевают два человека [1]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вляясь одной из самых драматичных страниц современной медицины, СД характеризуется исключительно ранней инвалидизацией и высокой смертностью прежде всего из-за его осложне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DF Diabetes Atlas. 6-th edition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vision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 201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ternational Diabetes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583-A99A-4F48-B11E-D14D154AF84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данным Международной Диабетической Федерации (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ternational Diabetes Federation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DF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к началу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в мире насчитывалось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7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лн пациентов с сахарным диабетом (СД), т.е. распространенность заболевания составила 8,3%.  Эта цифра дана без учета 530 млн людей во всем мире с нарушением толерантности к глюкозе, которые с высокой долей вероятности могут пополнить группу больных СД. Данные статистики показывают, что каждые 7 секунд в мире умирает один больной СД и вновь заболевают два человека [1]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вляясь одной из самых драматичных страниц современной медицины, СД характеризуется исключительно ранней инвалидизацией и высокой смертностью прежде всего из-за его осложне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IDF Diabetes Atlas. 6-th edition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vision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 201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ternational Diabetes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7B73-CCB7-4CEE-B33D-45AC5DA2916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определению, предложенному на Всемирной конференции по диабетической полиневропатии (Сан-Антонио, США; 1988), диабетическая невропатия – это комплекс клинических и субклинических синдромов, каждый из которых характеризуется диффузным или очаговым поражением периферическихили автономных нервных волокон в результате С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бетическая полинейропатия  (ДПН) является одним из самых распространенных хронических осложнений сахарного диабета (СД) и наиболее часто встречающейся формой нейропат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ПН носят гетерогенный характер как по симптоматике и паттерну поражения периферической нервной системы, так и по факторам риска и патофизиологическим механизмам развития отдельных вариантов пора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EFCB-81CB-4B40-BAE8-9D5135C62BB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ные о распространенности ДПН зависят от метода диагностики и варьируются от 3,5–6,1% в дебюте СД до 90% при использовании электрофизиологических методов обнаружения нарушения функций периферических нервов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литературе имеются противоречивые данные, неоднозначность которых может быть следствием разноплановой и неадекватной диагностики, разнообразия клинической симп­томатики, отсутствия унифицированных методов выявления ДПН, а также исследований, проводимых у различных контингентов пациентов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общесоциальной точки зрения мы должны рассматривать ДПН как прогрессирующее заболевание, которое при отсутствии адекватной терапии приводит к развитию «синдрома диабетической стопы» (ДС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 Tesfaye S, Boulton AJM, Dyck PJ et al. Diabetic Neuropathies: Update on Definitions, Diagnostic Criteria, Estimation on Severity, and Treatments. Diabetes Care 2010; 33 (10)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; 2285-93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BE92-BAF0-4B81-916C-81777D98090E}" type="slidenum">
              <a:rPr b="1" lang="ru-RU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641-E40E-46B2-8B65-762D0FFB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84C-1E1B-4FDB-B4B5-7C8C498F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1A4-EA48-4AF1-A70E-DE478399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480-F9E4-49AF-9C49-B60DEC35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EE08-8E2A-4B70-A791-C64AC13E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22E7-9419-4B52-B222-7CE9A1B2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8998-8DE4-441B-9FA1-874A42CB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F448-DE9C-4D3E-95F1-7066C496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14E7-8D31-431D-B0E2-8E4021B4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EAE6-3767-4683-84D0-9FEB8721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1C6B-E141-447D-AA5A-91974BA7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338-81B8-4BAE-96DB-DDFDBB87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7B25-AD8C-46ED-9A32-D8058B4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C777-FD11-46C9-A91A-7E11B289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448-3768-4298-99DB-5B789D26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C5C3-6B5F-4951-AF91-6E6762B0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0BFF-4100-4CB6-8D4B-7638E777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0C0-0F44-4D5B-A445-EE5B212A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BB0-F997-43B1-A567-7A67A8E1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76E-0958-4F18-9CA2-AE6F81D2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DEF-946B-49B8-B144-3A1DE5E1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4C9-381A-471D-B299-76AB1D55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4F9-2F9F-4F71-BB53-AAC7714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AF8-ECF1-43E8-B467-4C75B37C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8317-8F44-470A-9E87-B4BD1830B222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C8A1-97B8-497A-9A19-4B69D8ABDEC8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65200" y="1114920"/>
            <a:ext cx="7365240" cy="13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Диабетическая нейропат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4000" y="522936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.М. Фархутдинов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афедра терапии и общей врачебной практики с курсом гериатрии ИДПО БГМ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306864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екц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98920" y="773640"/>
            <a:ext cx="8172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лассификация дистальной нейропат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35120" y="1599840"/>
            <a:ext cx="840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Чувствительные волокна тоньше по сравнению с двигательными, поэтому повреждаются раньш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.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оклини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наруживается по данным электронейромиограф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I.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лини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является жалобами на парестезии, зябкость, боли, преимущественно ночью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II.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ложнен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обусловлена утратой всех видов чувствительности: болевой, температурной, тактильной, вибрационной, проприоцептивной, что провоцирует развитие яз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98920" y="773640"/>
            <a:ext cx="8172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дром диабетической стопы                  (СДС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ологические изменения периферической нервной системы, артериального и микроциркуляторного русла, костно-суставного аппарата стопы, представляющие угрозу развития язвенно-некротических процессов и гангрены стоп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ДС – основная причина ампутац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 СДС ампутации проводятся в 17–45 раз чаще по сравнению с лицами без диабета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линические форм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йропатическ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шемическ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йроишемическа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98920" y="773640"/>
            <a:ext cx="8172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ейропатическая и ишемическая формы синдрома диабетической стоп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55640" y="2349360"/>
          <a:ext cx="8064360" cy="4483080"/>
        </p:xfrm>
        <a:graphic>
          <a:graphicData uri="http://schemas.openxmlformats.org/drawingml/2006/table">
            <a:tbl>
              <a:tblPr/>
              <a:tblGrid>
                <a:gridCol w="1523880"/>
                <a:gridCol w="3225960"/>
                <a:gridCol w="3314520"/>
              </a:tblGrid>
              <a:tr h="43344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СДС/критерии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йропатическая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шемическая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1132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раст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 зависимости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арше 45 лет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24128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амнез 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лительный стаж СД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рофические язвы и ампутации в анамнезе 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ругие осложнения диабета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лоупотребление алкоголем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Б, дислипидемия, ИБС, ЦВЗ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звы стоп в анамнезе – редко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ругие осложнения диабета могут быть не выражены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урение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21132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лобы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сутствуют 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еремежающаяся хромота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53972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мотр 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жа розовая, сухая, теплая на ощупь, гиперкератоз в зонах нагрузки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зва безболезненная, окружена гиперкератозом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окализация язвы – зоны наибольшего давления на стопе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ецифическая для диабета деформация стоп, пальцев, голеностопных суставов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жа бледная или цианотичная, холодная на ощупь, явления атрофии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зва болезненная, кожа вокруг истончена, часто образование сухого некроза в виде струпа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окализация язвы – в акральных зонах стопы (пятка, кончики пальцев)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специфическая деформация пальцев стопы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2372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ьпация артерий стоп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ульсация сохранена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ульсация снижена или отсутствует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22280"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И артерий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ровоток магистральных артерий сохранен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ровоток магистральных артерий снижен или отсутствует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98920" y="773640"/>
            <a:ext cx="8172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ка периферической нейропат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Таблица 2" descr=""/>
          <p:cNvPicPr/>
          <p:nvPr/>
        </p:nvPicPr>
        <p:blipFill>
          <a:blip r:embed="rId1"/>
          <a:stretch/>
        </p:blipFill>
        <p:spPr>
          <a:xfrm>
            <a:off x="822240" y="2279520"/>
            <a:ext cx="82915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98920" y="773640"/>
            <a:ext cx="8172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линические особенности диабетической нейропат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34760" y="1599840"/>
            <a:ext cx="772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иболее частая форма – симметричная дистальная сенсорная или сенсомоторная нейропат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Чувствительные и двигательные нарушения распространяются в проксимальном направлении при прогрессировании болезн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1960" y="843840"/>
            <a:ext cx="789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втономная нейропат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ердечно-сосудиста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стойкая тахикардия, ортостатическая гипотензия, безболевая ишемия и инфаркт миокард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Желудочно-кишечна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атония желудка, диаре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очеполова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атония мочевого пузыря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ругих органов и систем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бессимптомная гипогликемия, нарушение адаптации к темноте, нарушение потоотдел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98920" y="773640"/>
            <a:ext cx="8172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руппы риска по развитию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йропат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ольные сахарным диабетом 1-го типа через 3 года от дебюта заболе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ольные сахарным диабетом 2-го типа с момента диагностики заболе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агностика нейропатии – эндокринолог, диабетолог, невроло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чение – эндокринолог, диабетолог, невролог и врачи других специальностей (кардиолог, гастроэнтеролог, уролог и др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98920" y="773640"/>
            <a:ext cx="8172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ка автономной нейропат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26920" y="1989000"/>
          <a:ext cx="8317080" cy="4869000"/>
        </p:xfrm>
        <a:graphic>
          <a:graphicData uri="http://schemas.openxmlformats.org/drawingml/2006/table">
            <a:tbl>
              <a:tblPr/>
              <a:tblGrid>
                <a:gridCol w="1386000"/>
                <a:gridCol w="1422360"/>
                <a:gridCol w="3240360"/>
                <a:gridCol w="2268360"/>
              </a:tblGrid>
              <a:tr h="213480"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нейропатии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нические проявления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бязательные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полнительные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190960">
                <a:tc rowSpan="4"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номная (вегетативная)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ердечно-сосудистые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тостатическая проба: снижение систолического АД≥30 мм рт. ст. при перемене положения тела с горизонтального на вертикальное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сутствие ускорения ЧСС на вдохе и его урежения на выходе более чем на 10 уд/мин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ба Вальсальвы: отсутствие увеличения ЧСС при натуживании более чем на 10 уд/мин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точное мониторирование АД: отсутствие ночного снижения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олтеровское мониторирование ЭКГ: разница между макс. и мин. ЧСС в течение суток ≤14 уд/мин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КГ в пробе Вальсальвы: отношение макс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R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ин. 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R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≤1,2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5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елудочно-кишечные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прос и осмотр: дисфагия, чувство переполнения в животе, тошнота, чередование диареи и запоров, ночная диарея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нтгенография ЖКТ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ГДС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цинтиграфия желудка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лектрогастрография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чеполовые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прос и осмотр: отсутствие позывов к мочеиспусканию, эректильная дисфункция и др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рофлоуметрия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ЗИ мочевого пузыря (объем остаточной мочи)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6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ндокринные – бессимптомная гипогликемия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прос и анализ дневника самоконтроля гликемии: больной не чувствует симптомов гипогликемии.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ониторирование уровня глюкозы крови</a:t>
                      </a:r>
                      <a:endParaRPr b="1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7080" y="1038960"/>
            <a:ext cx="85089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ечение диабетической нейропат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00000" y="2465280"/>
            <a:ext cx="82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троль гликем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троль артериального дав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тогенетическая терапия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имптоматическая терап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7080" y="1038960"/>
            <a:ext cx="85089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Терапия</a:t>
            </a:r>
            <a:br>
              <a:rPr sz="32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00000" y="2465280"/>
            <a:ext cx="7958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итамины гр. В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Мильгамма (амп.: В1, В6, В12; др.: В1, В6), Комбилипен (амп., таб.: В1, В6, В12), Нейромультивит (таб., амп.: В1, В6, В12), Кокарнит (амп.: никотиновая кислота, кокарбоксилаза, В12, динатрия аденозинтрифосфат тригидрат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параты альфа-липоевой кислоты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Берлитион, Тиоктацид, Тиогамма, Октолипе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параты, улучшающие микроциркуляцию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Вазонит, Актовег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Лечение болевой формы диабетической нейропат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нтиконвульсанты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Прегабалин (150–600 мг/сут), Габапентин (300–3600 мг/сут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нтидепрессанты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Дулоксетин (60–120 мг/сут), Амитриптилин (25–150 мг/сут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параты местного действи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Капсаицин (местно-раздражающий), Лидокаин (местно-обезболивающий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эффективности –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пиаты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Трамадол (100–400 мг/сут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66000" y="1251360"/>
            <a:ext cx="903456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</a:t>
            </a:r>
            <a:br>
              <a:rPr sz="3200"/>
            </a:b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ктуальность</a:t>
            </a: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55280" y="2276280"/>
            <a:ext cx="78692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 мире: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коло 400 млн больных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харным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абетом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жегодн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оле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мл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мпутаций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ижних конечностей по причин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харного диаб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7080" y="1038960"/>
            <a:ext cx="85089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ечение нейропатической формы синдрома диабетической стопы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00000" y="2465280"/>
            <a:ext cx="82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роль гликем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грузка пораженной конечности (лечебно-разгрузочная обувь, индивидуальная разгрузочная повязка, кресло-катал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даление некротизированных и нежизнеспособных ткан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истемная антибиотикотерапия при наличии признаков активного инфекционного процесса и раневых инфицированных дефектах (цефалоспорины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генерации, фторхинолоны, клиндамицин, даптомицин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 выявлении остеомиелита – удаление пораженной кости с последующей антибактериальной терапи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атравматических перевязочных средств, соответствующих стадии раневого процес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7080" y="1038960"/>
            <a:ext cx="85089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ечение ишемической формы синдрома диабетической стопы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00000" y="2465280"/>
            <a:ext cx="82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нсервативная терап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нтроль гликем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нтроль АД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тказ от кур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Лечение дислипидем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нтикоагулянты (низкомолекулярные гепарины: дальтепарин, эноксапарин, надропарин) и антиагреганты (ацетилсалициловая кислота, клопидогрель) под контролем коагулограммы и состояния глазного дн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азодилататоры – препараты простагландина Е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спользование атравматических перевязочных средств, соответствующих стадии раневого процесс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нтибактериальная терапия при наличии показаний с использованием препаратов, активных в отношении аэробной и анаэробной флор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и наличии признаков критической ишемии консервативное лечение неэффективно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Хирургическое леч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Хирургическая реваскуляризация (балонная ангиопластика, стентирование, эндартерэктомия, дистальное шунтирование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шение об ампутации принимается только после антиографического исследования и/или консультации сосудистого хирург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77080" y="1110600"/>
            <a:ext cx="85089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знаки раневой инфекц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00000" y="2465280"/>
            <a:ext cx="82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стемные: лихорадка, интоксикация, лейкоцитоз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стные: гиперемия и гипертермия, отек, боль, гнойный экссуда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стемные признаки раневой инфекции могут отсутствовать из-за гипореактивности при диабете, особенно у лиц старшего возраста, поэтому следует ориентироваться на местные призна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7080" y="1110600"/>
            <a:ext cx="85089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офилактика синдрома диабетической стопы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00000" y="2465280"/>
            <a:ext cx="82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троль гликем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троль артериального дав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ход за ног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добная обувь, при необходимости – ортопедическа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77080" y="1110600"/>
            <a:ext cx="85089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Подиатрический</a:t>
            </a: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ход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00000" y="2465280"/>
            <a:ext cx="82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мотр стоп позволяет прогнозировать место развития язвы задолго до ее возникнов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ъязвенное повреждение кожи – гиперкератоз и/или подкожное кровоизлия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рмируется в зонах избыточного нагрузочного давления на стопе за счет ее деформации (клювовидные и молоткообразные пальцы, плоскостопие, ампутации в пределах стопы и т.п.). или тесной обув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ебования к обуви – большое внутреннее пространство, мягкий и податливый верх обуви, ригидная подош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диатрические процедуры (удаление участков гиперкератоза и др.) на 30 % снижают риск развития язв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диатрический уход в 3 раза снижает риск развития язв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7080" y="1110600"/>
            <a:ext cx="85089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Уход за ногами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00000" y="2465280"/>
            <a:ext cx="82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жедневный осмот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жедневно мыть, сушить полотенцем осторожно, промокательными движениями, не наносить увлажняющий крем между пальц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рабатывать ногти, формируя горизонтальный кра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далять мозоли и участки избыточного ороговения пемзой. Нельзя использовать мозольные ножи, лезвия, мозольные жидкости, мази и пластыр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девать носки соответствующего размера (чтобы не сбивались в обуви) и без тугих резинок. Для согревания нельзя использовать грелки, батареи, горячие ножные ванны и т.д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рять внутреннюю поверхность обуви рукой перед тем, как наде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вильно подбирать обувь – не должна быть узкой, давящей, на высоком (более 5 см) каблуке (высокий каблук повышает давление на подошву), с ремешком между пальцами. Нельзя ходить без обув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66000" y="1251360"/>
            <a:ext cx="903456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</a:t>
            </a:r>
            <a:br>
              <a:rPr sz="3200"/>
            </a:b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</a:t>
            </a: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280" y="2276280"/>
            <a:ext cx="765324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иабетическая нейропатия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комплекс синдромов, обусловленных диффузным или очаговым поражением периферических и/или автономных нервных волокон в результате сахарного диабе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26836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атогенез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000" y="2349360"/>
            <a:ext cx="80024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ипергликем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вреждение эндотелия капилляров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(гемодинамическое, метаболическо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ипоксия нер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нервация ткане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211640" y="282888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238640" y="4292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4238640" y="528624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162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6409080" cy="4952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755640" y="762120"/>
            <a:ext cx="87123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томорфология диабетической     нейропати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57840" y="2419200"/>
            <a:ext cx="65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рвные волокна и кровеносные сосуды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3621240" y="3284640"/>
            <a:ext cx="133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Немиелиновое нервное волокно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2556000" y="6184800"/>
            <a:ext cx="133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Миелиновое нервное волокно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7020000" y="3192480"/>
            <a:ext cx="141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Повреждение немиелинового нервного волокна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5241960" y="6027840"/>
            <a:ext cx="133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Повреждение миелинового нервного волокна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4335480" y="5388120"/>
            <a:ext cx="13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Окклюзия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109600" y="300816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орма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5424480" y="296712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атология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uralis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6402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880920" y="0"/>
            <a:ext cx="29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Sural Nerve: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онтроль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876920" y="0"/>
            <a:ext cx="229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ccff"/>
                </a:solidFill>
                <a:latin typeface="Arial"/>
              </a:rPr>
              <a:t>Sural Nerve: </a:t>
            </a:r>
            <a:r>
              <a:rPr b="1" lang="ru-RU" sz="2000" spc="-1" strike="noStrike">
                <a:solidFill>
                  <a:srgbClr val="ffccff"/>
                </a:solidFill>
                <a:latin typeface="Arial"/>
              </a:rPr>
              <a:t>ДПН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4538520" cy="68580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2000" y="404640"/>
            <a:ext cx="4572000" cy="6453360"/>
          </a:xfrm>
          <a:prstGeom prst="rect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3"/>
          <p:cNvGrpSpPr/>
          <p:nvPr/>
        </p:nvGrpSpPr>
        <p:grpSpPr>
          <a:xfrm>
            <a:off x="130320" y="1306440"/>
            <a:ext cx="5521320" cy="5507280"/>
            <a:chOff x="130320" y="1306440"/>
            <a:chExt cx="5521320" cy="550728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rcRect l="1442" t="1716" r="50004" b="32543"/>
            <a:stretch/>
          </p:blipFill>
          <p:spPr>
            <a:xfrm>
              <a:off x="138600" y="1306440"/>
              <a:ext cx="5513040" cy="55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3"/>
            <p:cNvSpPr/>
            <p:nvPr/>
          </p:nvSpPr>
          <p:spPr>
            <a:xfrm>
              <a:off x="322200" y="5388120"/>
              <a:ext cx="1873080" cy="703800"/>
            </a:xfrm>
            <a:prstGeom prst="rect">
              <a:avLst/>
            </a:prstGeom>
            <a:solidFill>
              <a:srgbClr val="003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ормальный нерв</a:t>
              </a: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TextBox 4"/>
            <p:cNvSpPr/>
            <p:nvPr/>
          </p:nvSpPr>
          <p:spPr>
            <a:xfrm>
              <a:off x="322200" y="1388880"/>
              <a:ext cx="2639880" cy="703800"/>
            </a:xfrm>
            <a:prstGeom prst="rect">
              <a:avLst/>
            </a:prstGeom>
            <a:solidFill>
              <a:srgbClr val="003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врежденный нерв</a:t>
              </a: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Box 5"/>
            <p:cNvSpPr/>
            <p:nvPr/>
          </p:nvSpPr>
          <p:spPr>
            <a:xfrm>
              <a:off x="3492720" y="2027160"/>
              <a:ext cx="2158920" cy="764640"/>
            </a:xfrm>
            <a:prstGeom prst="rect">
              <a:avLst/>
            </a:prstGeom>
            <a:solidFill>
              <a:srgbClr val="005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врежденный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иелин</a:t>
              </a: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Box 6"/>
            <p:cNvSpPr/>
            <p:nvPr/>
          </p:nvSpPr>
          <p:spPr>
            <a:xfrm>
              <a:off x="130320" y="3438360"/>
              <a:ext cx="1128600" cy="398880"/>
            </a:xfrm>
            <a:prstGeom prst="rect">
              <a:avLst/>
            </a:prstGeom>
            <a:solidFill>
              <a:srgbClr val="003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Аксон</a:t>
              </a: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Box 7"/>
            <p:cNvSpPr/>
            <p:nvPr/>
          </p:nvSpPr>
          <p:spPr>
            <a:xfrm>
              <a:off x="3733920" y="6283440"/>
              <a:ext cx="1270080" cy="39888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иелин</a:t>
              </a: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Заголовок 1"/>
          <p:cNvSpPr/>
          <p:nvPr/>
        </p:nvSpPr>
        <p:spPr>
          <a:xfrm>
            <a:off x="130320" y="115920"/>
            <a:ext cx="92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f4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бетическая нейропат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2"/>
          <a:stretch/>
        </p:blipFill>
        <p:spPr>
          <a:xfrm>
            <a:off x="5651640" y="1224000"/>
            <a:ext cx="349236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971640" y="2421000"/>
            <a:ext cx="720072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редняя частота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5%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 проведении электронейромиографии, оценке  чувствительности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 90%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 сахарном диабете 2-го типа полинейропатия диагностируется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бюте заболева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257040" y="83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йропатия – самое частое осложнение сахарного диабет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7T19:45:49Z</dcterms:created>
  <dc:creator>Пользователь Microsoft Office</dc:creator>
  <dc:description/>
  <dc:language>en-US</dc:language>
  <cp:lastModifiedBy>User</cp:lastModifiedBy>
  <dcterms:modified xsi:type="dcterms:W3CDTF">2020-03-24T09:16:56Z</dcterms:modified>
  <cp:revision>133</cp:revision>
  <dc:subject/>
  <dc:title>САХАРНЫЙ ДИАБЕТ</dc:title>
</cp:coreProperties>
</file>