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268-96A3-4425-A2B3-6C99A37DE8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4387-36C9-4ED6-8219-4801C5E516C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BAB-918F-4EFB-92C3-65EE62E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38C-2E0A-412C-B9F0-B24BE01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8DF-377A-4BA5-87FB-E1054BF9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C2E-D872-45EF-B9BB-EB4AB0A4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DCAE-8804-4CBC-967E-7D49558D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AA12-3EF5-435E-8B11-F4BC079F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E0EE-D394-49DD-8B5F-A5A92EB7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5406-879C-4597-93A2-E28CAFEB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F692-7E59-4BC7-8EE1-A2B8686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30B8-A699-446D-9B6C-BBE99214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8909-50EE-444D-8429-E3BD7C5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0E3-24F0-4EE2-942B-2B48828A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E58-0ED0-40E1-AEFC-7FCBB8AA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8C8-3C1A-462F-8DF3-555435F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8453-97F4-483F-80B6-4467E4C9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88CC-833C-4AF4-B17A-3069A4C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5CC5-336F-43A2-B919-C3E236DE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200-1CD0-4E4D-B1B7-7BC0F7A2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BFC-9E6E-4360-91C0-D44ED8F8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93E-968F-4788-8DD8-21C8EC5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0E2-0E46-4C6E-A2D9-65A4B3B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5E1-9C9C-46C5-9108-F642C4DC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252-E2E3-4EDF-9354-02611682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48D-1313-4208-9976-165B4E6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ED78-116E-4B2B-988F-07F9CB369898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CAF2-47FB-477E-95B0-86CF6BA71C94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05200" y="1114920"/>
            <a:ext cx="7509600" cy="13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Диабетическая нефропати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5229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.М. Фархутдинов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афедра терапии и общей врачебной практики с курсом гериатрии ИДПО БГ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306864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екц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692280"/>
            <a:ext cx="7920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2" descr="Почка"/>
          <p:cNvPicPr/>
          <p:nvPr/>
        </p:nvPicPr>
        <p:blipFill>
          <a:blip r:embed="rId1"/>
          <a:stretch/>
        </p:blipFill>
        <p:spPr>
          <a:xfrm>
            <a:off x="1835280" y="1773360"/>
            <a:ext cx="5781600" cy="4803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826920" y="104292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одящая артериол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759280" y="11145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тводящая артериол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34000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чечн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убоче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5960" y="1132560"/>
            <a:ext cx="78994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  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абетическая нефропатия</a:t>
            </a:r>
            <a:br>
              <a:rPr sz="30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Поражение почек при сахарном диабете в виде формирования гломерулосклероза, приводящего к развитию почечной недостаточност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Гиалиноз, нефросклероз клубоч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Picture 3" descr="0268383266"/>
          <p:cNvPicPr/>
          <p:nvPr/>
        </p:nvPicPr>
        <p:blipFill>
          <a:blip r:embed="rId1"/>
          <a:stretch/>
        </p:blipFill>
        <p:spPr>
          <a:xfrm>
            <a:off x="4643280" y="227664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3"/>
          <p:cNvPicPr/>
          <p:nvPr/>
        </p:nvPicPr>
        <p:blipFill>
          <a:blip r:embed="rId2"/>
          <a:stretch/>
        </p:blipFill>
        <p:spPr>
          <a:xfrm>
            <a:off x="179280" y="2276640"/>
            <a:ext cx="44197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У и СКФ – наиболее ранние маркеры диабетической неф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нижение СКФ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и отсутствии каких-либо лабораторных признаков выявлено у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40 % больных СД 2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еатинин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ожет находиться в пределах нормальных значений вплоть до снижения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КФ до 30 мл/мин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оническая болезнь почек (ХБП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роническая болезнь почек (ХБП) – наличие маркеров повреждения почек более 3-х месяцев по данным лабораторных и/или визуализирующих методов об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абораторные маркеры повреждения почек: протеинурия, гематурия, лейкоцитурия, скорость клубочковой фильтрации (СКФ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теинурия (альбуминурия) – ранний и чувствительный марке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КФ – наиболее клинически значимый марке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дии хронической болезни почек (ХБП) при С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362320"/>
          <a:ext cx="7805880" cy="4479840"/>
        </p:xfrm>
        <a:graphic>
          <a:graphicData uri="http://schemas.openxmlformats.org/drawingml/2006/table">
            <a:tbl>
              <a:tblPr/>
              <a:tblGrid>
                <a:gridCol w="2602080"/>
                <a:gridCol w="2601720"/>
                <a:gridCol w="26020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ость клубочковой фильтрации (СКФ)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 9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сокая и оптимальная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1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 – 89 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значительно сниженная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2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5 – 59 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меренно сниженная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3а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 – 44 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щественно сниженная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3б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 – 29 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зко сниженная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4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lt; 15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ерминальная почечная недостаточность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5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лассификация ХБП по уровню альбумину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242100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рма – альбумин в моче до 10 мг/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теинурия – А3, нефротический синдром – А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00000" y="2421000"/>
          <a:ext cx="7128000" cy="3384360"/>
        </p:xfrm>
        <a:graphic>
          <a:graphicData uri="http://schemas.openxmlformats.org/drawingml/2006/table">
            <a:tbl>
              <a:tblPr/>
              <a:tblGrid>
                <a:gridCol w="1814760"/>
                <a:gridCol w="2315880"/>
                <a:gridCol w="2997360"/>
              </a:tblGrid>
              <a:tr h="1136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нтрация альбумина в моче (мг/л)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ание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1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lt;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орма или незначительно повышена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2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lt;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 –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меренно повышена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3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gt;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0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начительно повышена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з диабетической нефропатии по классификации ХБ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Н, ХБП С1 (2, 3 или 4) А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Н, ХБП С2 (3 или 4) А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Н, ХБП С5 (гемодиализ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Н, ХБП С3 или С4 при СКФ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60 мл/мин, в том числе при отсутствии признаков поражения поче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чиная с ХБП С3 диагностика и лечение выполняются совместно с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ФРОЛОГ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Лечение диабетической нефропатии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2708280"/>
            <a:ext cx="800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Контроль АД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епараты выбора – ИАПФ (ингибиторы ангиотензинпревращающего фермента) и АРА (антагонисты рецепторов ангиотензин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00000" y="692280"/>
            <a:ext cx="7920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2" descr="Почка"/>
          <p:cNvPicPr/>
          <p:nvPr/>
        </p:nvPicPr>
        <p:blipFill>
          <a:blip r:embed="rId1"/>
          <a:stretch/>
        </p:blipFill>
        <p:spPr>
          <a:xfrm>
            <a:off x="1835280" y="1773360"/>
            <a:ext cx="5781600" cy="4803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826920" y="104292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одящая артериол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5759280" y="11145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тводящая артериол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340000" y="260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чечн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убочек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стор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84872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840 г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французский патологоанатом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ернард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первые описал увеличение почек у больного диабе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ение почек обнаружено при экспериментальном С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оложено, что гипергликемия вызывает нефромегал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ринципы лечения при ХБП С1-3 А2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00000" y="2708280"/>
            <a:ext cx="800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елок до 1 г/кг массы тела в су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АД (целевое ≤ 130/80 мм рт. ст.). Препараты выбора – ИАПФ и БРА (противопоказаны при беременности); при необходимости – комбинированная гипотензивная терапия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дислипидем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анемии (препараты эритропоэтина, желез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збегать нефротоксических средств (аминогликозиды, НПВС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торожность при проведении рентгеноконтрастных процедур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ринципы лечения при ХБП С1-3 А3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00000" y="2708280"/>
            <a:ext cx="800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елок до 0,8 г/кг массы тела в су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АД (целевое ≤ 130/80 мм рт. ст.). Препараты выбора – ИАПФ и БРА (противопоказаны при беременности); при необходимости – комбинированная гипотензивная терапия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дислипидем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анемии (препараты эритропоэтина, желез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минерально-костных нарушений (витамин Д при выявлении дефицит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збегать нефротоксических средств (аминогликозиды, НВПС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торожность при проведении рентгеноконтрастных процеду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статуса питан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ринципы лечения при ХБП С4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00000" y="2565360"/>
            <a:ext cx="800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елок до 0,8 г/кг массы тела в су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АД (целевое ≤ 130/80 мм рт. ст.). ИАПФ и БРА в уменьшенной дозе; комбинированная гипотензивная терап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гиперкалием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дислипидем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нарушений фосфорно-кальциевого обме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ррекция анемии (препараты эритропоэтина, желез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збегать нефротоксических средств (аминогликозиды, НВПС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торожность при проведении рентгеноконтрастных процеду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нтроль статуса питан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ринципы лечения при ХБП С5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800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Гемодиализ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итонеальный диализ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рансплантация поч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азания к диализу у больных диабе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КФ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15 мл/мин/1,73 м</a:t>
            </a:r>
            <a:r>
              <a:rPr b="1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лигурия, анурия с нарастанием гидратации с риском развития отека легких и мозг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ыраженный полисерозит с риском развития тампонады сердц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рушение кислотно-основного (тяжелый метаболический ацидоз) и электролитного (неконтролируемая гиперкалиемия) баланс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ыраженный кожный зуд, гемморрагический диатез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Трудно контролируемая артериальная гипертенз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огрессивное ухудшение нутритивного статуса, нарастание белково-энергетической недостаточно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Энцефалопатия и когнитивные нарушения, изменение ментального статуса на фоне уремической интоксикац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ринципы лечения больных диабетом </a:t>
            </a:r>
            <a:br>
              <a:rPr sz="3000"/>
            </a:b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на диализе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00000" y="2565360"/>
            <a:ext cx="8002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евой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bA1c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8 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евое АД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140 и 90 мм рт. ст. Препараты выбора – ИАПФ и Б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евой гемоглобин крови ≥ 110 г/л ≤ 120 г/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евой парат-гормон  150–300 пг/мл (норма – 15–65), общий кальций – 2,1–2,37 ммоль/л, фосфор – 1,13–1,52 ммоль/л, произведение Са*Р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4,44 ммоль</a:t>
            </a:r>
            <a:r>
              <a:rPr b="1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/л</a:t>
            </a:r>
            <a:r>
              <a:rPr b="1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Изображение 1" descr="P10508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242100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921 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 появлением инсулина основной причиной смерти больных СД1 стала почечная недостаточность, которую считали результатом сопутствующей или предшествующей патологии поче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936 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американские патологоанатомы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иммельстил и Вильс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писали изменения в почках у больных диабетом с почечной недостаточностью: гиалиноз, склероз почечных клубоч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вые классификации ДН выделяли стадии: протеинурическая, начальная ХПН, терминальная ХП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69120" y="761400"/>
            <a:ext cx="799776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крытие механизмов неф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242064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970-е гг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датский исследователь Могенсен выделяет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дии нефропатии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(1 – гиперфильтрация, 2 – начальные гистологические изменения, 3 – альбуминурия, 4 – протеинурия, 5 – уремия).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980-е гг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внутриклубочковая гипертензия и гиперфильтрац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вляются ведущими механизмами развития ДН;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икроальбуминур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ранний лабораторный маркер Д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993 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именение каптоприла уменьшает скорость прогрессирования ХПН и снижает потребность в гемодиализе в 2 раз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2000 г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контроль гликемии и артериального давления снижает риск нефропатии в 10 р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Альбумин – мелкодисперсный белок, фибриноген, обусловливающий протеинурию, </a:t>
            </a:r>
            <a:r>
              <a:rPr b="0" lang="ru-RU" sz="16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крупнодисперсный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фропатия при СД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конц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в. начато изучение нефропатии при СД 2 типа: распространенность ДН при СД2 по данным регистра оказалась в 8 раз ниже фактической (при СД1 – в 2 раза ниж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момент диагностики СД 2 типа: 30% пациентов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икроальбуминурия, 10 %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ротеинурия, 1 % 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ХПН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акторы риска при СД2: ожирение, артериальная гипертензия, гиперлипидемия.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лгоритм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: при СД 2-го типа скрининг МАУ и СКФ сразу при постановке диагноза и затем ежегодно (при СД 1 – через 5 лет от начала заболевания, за исключением заболевших в пубертатном возраст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66"/>
                </a:solidFill>
                <a:latin typeface="Arial"/>
              </a:rPr>
              <a:t>ХПН – проблема сахарного диабета 2 типа 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27664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ндемический рост числа больных СД (при СД 2 ХПН в 10 раз реже, но больных СД 2 в 10 раз больш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величение продолжительности жизни больных СД (при СД 2 на 1-м месте причина смерти – ССЗ, на 2-м – ХП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емодиализ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США, Япония)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000 г. – 30 % больных – С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010 г. – 50 % больных – С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 них 80 % – СД 2 тип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настоящее время основная причина гемодиализа – СД 2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сд000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4" descr="Почка0001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оение поч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0000693589"/>
          <p:cNvPicPr/>
          <p:nvPr/>
        </p:nvPicPr>
        <p:blipFill>
          <a:blip r:embed="rId1"/>
          <a:stretch/>
        </p:blipFill>
        <p:spPr>
          <a:xfrm>
            <a:off x="380880" y="15238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19:45:49Z</dcterms:created>
  <dc:creator>Пользователь Microsoft Office</dc:creator>
  <dc:description/>
  <dc:language>en-US</dc:language>
  <cp:lastModifiedBy>User</cp:lastModifiedBy>
  <dcterms:modified xsi:type="dcterms:W3CDTF">2020-03-24T09:48:51Z</dcterms:modified>
  <cp:revision>104</cp:revision>
  <dc:subject/>
  <dc:title>САХАРНЫЙ ДИАБЕТ </dc:title>
</cp:coreProperties>
</file>